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6.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6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1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54.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9.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7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88.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82.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60.xml" ContentType="application/vnd.openxmlformats-officedocument.theme+xml"/>
  <Override PartName="/ppt/theme/theme61.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4.xml" ContentType="application/vnd.openxmlformats-officedocument.theme+xml"/>
  <Override PartName="/ppt/theme/theme85.xml" ContentType="application/vnd.openxmlformats-officedocument.theme+xml"/>
  <Override PartName="/ppt/theme/theme7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72.xml" ContentType="application/vnd.openxmlformats-officedocument.theme+xml"/>
  <Override PartName="/ppt/theme/theme80.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1027.xml" ContentType="application/vnd.openxmlformats-officedocument.presentationml.slideLayout+xml"/>
  <Override PartName="/ppt/slideLayouts/slideLayout397.xml" ContentType="application/vnd.openxmlformats-officedocument.presentationml.slideLayout+xml"/>
  <Override PartName="/ppt/slideLayouts/slideLayout1026.xml" ContentType="application/vnd.openxmlformats-officedocument.presentationml.slideLayout+xml"/>
  <Override PartName="/ppt/slideLayouts/slideLayout396.xml" ContentType="application/vnd.openxmlformats-officedocument.presentationml.slideLayout+xml"/>
  <Override PartName="/ppt/slideLayouts/slideLayout1025.xml" ContentType="application/vnd.openxmlformats-officedocument.presentationml.slideLayout+xml"/>
  <Override PartName="/ppt/slideLayouts/slideLayout395.xml" ContentType="application/vnd.openxmlformats-officedocument.presentationml.slideLayout+xml"/>
  <Override PartName="/ppt/slideLayouts/slideLayout1024.xml" ContentType="application/vnd.openxmlformats-officedocument.presentationml.slideLayout+xml"/>
  <Override PartName="/ppt/slideLayouts/slideLayout394.xml" ContentType="application/vnd.openxmlformats-officedocument.presentationml.slideLayout+xml"/>
  <Override PartName="/ppt/slideLayouts/slideLayout1023.xml" ContentType="application/vnd.openxmlformats-officedocument.presentationml.slideLayout+xml"/>
  <Override PartName="/ppt/slideLayouts/slideLayout393.xml" ContentType="application/vnd.openxmlformats-officedocument.presentationml.slideLayout+xml"/>
  <Override PartName="/ppt/slideLayouts/slideLayout1022.xml" ContentType="application/vnd.openxmlformats-officedocument.presentationml.slideLayout+xml"/>
  <Override PartName="/ppt/slideLayouts/slideLayout392.xml" ContentType="application/vnd.openxmlformats-officedocument.presentationml.slideLayout+xml"/>
  <Override PartName="/ppt/slideLayouts/slideLayout1021.xml" ContentType="application/vnd.openxmlformats-officedocument.presentationml.slideLayout+xml"/>
  <Override PartName="/ppt/slideLayouts/slideLayout391.xml" ContentType="application/vnd.openxmlformats-officedocument.presentationml.slideLayout+xml"/>
  <Override PartName="/ppt/slideLayouts/slideLayout1020.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384.xml" ContentType="application/vnd.openxmlformats-officedocument.presentationml.slideLayout+xml"/>
  <Override PartName="/ppt/slideLayouts/slideLayout1013.xml" ContentType="application/vnd.openxmlformats-officedocument.presentationml.slideLayout+xml"/>
  <Override PartName="/ppt/slideLayouts/slideLayout383.xml" ContentType="application/vnd.openxmlformats-officedocument.presentationml.slideLayout+xml"/>
  <Override PartName="/ppt/slideLayouts/slideLayout1012.xml" ContentType="application/vnd.openxmlformats-officedocument.presentationml.slideLayout+xml"/>
  <Override PartName="/ppt/slideLayouts/slideLayout382.xml" ContentType="application/vnd.openxmlformats-officedocument.presentationml.slideLayout+xml"/>
  <Override PartName="/ppt/slideLayouts/slideLayout1011.xml" ContentType="application/vnd.openxmlformats-officedocument.presentationml.slideLayout+xml"/>
  <Override PartName="/ppt/slideLayouts/slideLayout381.xml" ContentType="application/vnd.openxmlformats-officedocument.presentationml.slideLayout+xml"/>
  <Override PartName="/ppt/slideLayouts/slideLayout1010.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4.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486.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8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684.xml.rels" ContentType="application/vnd.openxmlformats-package.relationships+xml"/>
  <Override PartName="/ppt/slideLayouts/_rels/slideLayout978.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57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589.xml.rels" ContentType="application/vnd.openxmlformats-package.relationships+xml"/>
  <Override PartName="/ppt/slideLayouts/_rels/slideLayout600.xml.rels" ContentType="application/vnd.openxmlformats-package.relationships+xml"/>
  <Override PartName="/ppt/slideLayouts/_rels/slideLayout952.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595.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633.xml.rels" ContentType="application/vnd.openxmlformats-package.relationships+xml"/>
  <Override PartName="/ppt/slideLayouts/_rels/slideLayout927.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360.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505.xml.rels" ContentType="application/vnd.openxmlformats-package.relationships+xml"/>
  <Override PartName="/ppt/slideLayouts/_rels/slideLayout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879.xml.rels" ContentType="application/vnd.openxmlformats-package.relationships+xml"/>
  <Override PartName="/ppt/slideLayouts/_rels/slideLayout379.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1044.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69.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016.xml.rels" ContentType="application/vnd.openxmlformats-package.relationships+xml"/>
  <Override PartName="/ppt/slideLayouts/_rels/slideLayout45.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588.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105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1020.xml.rels" ContentType="application/vnd.openxmlformats-package.relationships+xml"/>
  <Override PartName="/ppt/slideLayouts/_rels/slideLayout540.xml.rels" ContentType="application/vnd.openxmlformats-package.relationships+xml"/>
  <Override PartName="/ppt/slideLayouts/_rels/slideLayout1048.xml.rels" ContentType="application/vnd.openxmlformats-package.relationships+xml"/>
  <Override PartName="/ppt/slideLayouts/_rels/slideLayout594.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61.xml.rels" ContentType="application/vnd.openxmlformats-package.relationships+xml"/>
  <Override PartName="/ppt/slideLayouts/_rels/slideLayout67.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17.xml.rels" ContentType="application/vnd.openxmlformats-package.relationships+xml"/>
  <Override PartName="/ppt/slideLayouts/_rels/slideLayout538.xml.rels" ContentType="application/vnd.openxmlformats-package.relationships+xml"/>
  <Override PartName="/ppt/slideLayouts/_rels/slideLayout1018.xml.rels" ContentType="application/vnd.openxmlformats-package.relationships+xml"/>
  <Override PartName="/ppt/slideLayouts/_rels/slideLayout1023.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00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1002.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29.xml.rels" ContentType="application/vnd.openxmlformats-package.relationships+xml"/>
  <Override PartName="/ppt/slideLayouts/_rels/slideLayout1028.xml.rels" ContentType="application/vnd.openxmlformats-package.relationships+xml"/>
  <Override PartName="/ppt/slideLayouts/_rels/slideLayout21.xml.rels" ContentType="application/vnd.openxmlformats-package.relationships+xml"/>
  <Override PartName="/ppt/slideLayouts/_rels/slideLayout19.xml.rels" ContentType="application/vnd.openxmlformats-package.relationships+xml"/>
  <Override PartName="/ppt/slideLayouts/_rels/slideLayout58.xml.rels" ContentType="application/vnd.openxmlformats-package.relationships+xml"/>
  <Override PartName="/ppt/slideLayouts/_rels/slideLayout1008.xml.rels" ContentType="application/vnd.openxmlformats-package.relationships+xml"/>
  <Override PartName="/ppt/slideLayouts/_rels/slideLayout528.xml.rels" ContentType="application/vnd.openxmlformats-package.relationships+xml"/>
  <Override PartName="/ppt/slideLayouts/_rels/slideLayout1013.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74.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1011.xml.rels" ContentType="application/vnd.openxmlformats-package.relationships+xml"/>
  <Override PartName="/ppt/slideLayouts/_rels/slideLayout1006.xml.rels" ContentType="application/vnd.openxmlformats-package.relationships+xml"/>
  <Override PartName="/ppt/slideLayouts/_rels/slideLayout526.xml.rels" ContentType="application/vnd.openxmlformats-package.relationships+xml"/>
  <Override PartName="/ppt/slideLayouts/_rels/slideLayout84.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1041.xml.rels" ContentType="application/vnd.openxmlformats-package.relationships+xml"/>
  <Override PartName="/ppt/slideLayouts/_rels/slideLayout72.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34.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902.xml.rels" ContentType="application/vnd.openxmlformats-package.relationships+xml"/>
  <Override PartName="/ppt/slideLayouts/_rels/slideLayout402.xml.rels" ContentType="application/vnd.openxmlformats-package.relationships+xml"/>
  <Override PartName="/ppt/slideLayouts/_rels/slideLayout777.xml.rels" ContentType="application/vnd.openxmlformats-package.relationships+xml"/>
  <Override PartName="/ppt/slideLayouts/_rels/slideLayout277.xml.rels" ContentType="application/vnd.openxmlformats-package.relationships+xml"/>
  <Override PartName="/ppt/slideLayouts/_rels/slideLayout1005.xml.rels" ContentType="application/vnd.openxmlformats-package.relationships+xml"/>
  <Override PartName="/ppt/slideLayouts/_rels/slideLayout101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29.xml.rels" ContentType="application/vnd.openxmlformats-package.relationships+xml"/>
  <Override PartName="/ppt/slideLayouts/_rels/slideLayout1014.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21.xml.rels" ContentType="application/vnd.openxmlformats-package.relationships+xml"/>
  <Override PartName="/ppt/slideLayouts/_rels/slideLayout541.xml.rels" ContentType="application/vnd.openxmlformats-package.relationships+xml"/>
  <Override PartName="/ppt/slideLayouts/_rels/slideLayout504.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1022.xml.rels" ContentType="application/vnd.openxmlformats-package.relationships+xml"/>
  <Override PartName="/ppt/slideLayouts/_rels/slideLayout515.xml.rels" ContentType="application/vnd.openxmlformats-package.relationships+xml"/>
  <Override PartName="/ppt/slideLayouts/_rels/slideLayout1000.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42.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87.xml.rels" ContentType="application/vnd.openxmlformats-package.relationships+xml"/>
  <Override PartName="/ppt/slideLayouts/_rels/slideLayout83.xml.rels" ContentType="application/vnd.openxmlformats-package.relationships+xml"/>
  <Override PartName="/ppt/slideLayouts/_rels/slideLayout40.xml.rels" ContentType="application/vnd.openxmlformats-package.relationships+xml"/>
  <Override PartName="/ppt/slideLayouts/_rels/slideLayout98.xml.rels" ContentType="application/vnd.openxmlformats-package.relationships+xml"/>
  <Override PartName="/ppt/slideLayouts/_rels/slideLayout1025.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07.xml.rels" ContentType="application/vnd.openxmlformats-package.relationships+xml"/>
  <Override PartName="/ppt/slideLayouts/_rels/slideLayout85.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880.xml.rels" ContentType="application/vnd.openxmlformats-package.relationships+xml"/>
  <Override PartName="/ppt/slideLayouts/_rels/slideLayout380.xml.rels" ContentType="application/vnd.openxmlformats-package.relationships+xml"/>
  <Override PartName="/ppt/slideLayouts/_rels/slideLayout100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73.xml.rels" ContentType="application/vnd.openxmlformats-package.relationships+xml"/>
  <Override PartName="/ppt/slideLayouts/_rels/slideLayout99.xml.rels" ContentType="application/vnd.openxmlformats-package.relationships+xml"/>
  <Override PartName="/ppt/slideLayouts/_rels/slideLayout1026.xml.rels" ContentType="application/vnd.openxmlformats-package.relationships+xml"/>
  <Override PartName="/ppt/slideLayouts/_rels/slideLayout289.xml.rels" ContentType="application/vnd.openxmlformats-package.relationships+xml"/>
  <Override PartName="/ppt/slideLayouts/_rels/slideLayout1017.xml.rels" ContentType="application/vnd.openxmlformats-package.relationships+xml"/>
  <Override PartName="/ppt/slideLayouts/_rels/slideLayout97.xml.rels" ContentType="application/vnd.openxmlformats-package.relationships+xml"/>
  <Override PartName="/ppt/slideLayouts/_rels/slideLayout582.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96.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40.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04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1015.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70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103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103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1029.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053.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030.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031.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42.xml.rels" ContentType="application/vnd.openxmlformats-package.relationships+xml"/>
  <Override PartName="/ppt/slideLayouts/_rels/slideLayout557.xml.rels" ContentType="application/vnd.openxmlformats-package.relationships+xml"/>
  <Override PartName="/ppt/slideLayouts/_rels/slideLayout1038.xml.rels" ContentType="application/vnd.openxmlformats-package.relationships+xml"/>
  <Override PartName="/ppt/slideLayouts/_rels/slideLayout490.xml.rels" ContentType="application/vnd.openxmlformats-package.relationships+xml"/>
  <Override PartName="/ppt/slideLayouts/_rels/slideLayout9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22.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1037.xml.rels" ContentType="application/vnd.openxmlformats-package.relationships+xml"/>
  <Override PartName="/ppt/slideLayouts/_rels/slideLayout80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862.xml.rels" ContentType="application/vnd.openxmlformats-package.relationships+xml"/>
  <Override PartName="/ppt/slideLayouts/_rels/slideLayout1036.xml.rels" ContentType="application/vnd.openxmlformats-package.relationships+xml"/>
  <Override PartName="/ppt/slideLayouts/_rels/slideLayout1054.xml.rels" ContentType="application/vnd.openxmlformats-package.relationships+xml"/>
  <Override PartName="/ppt/slideLayouts/_rels/slideLayout569.xml.rels" ContentType="application/vnd.openxmlformats-package.relationships+xml"/>
  <Override PartName="/ppt/slideLayouts/_rels/slideLayout1043.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103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935.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435.xml.rels" ContentType="application/vnd.openxmlformats-package.relationships+xml"/>
  <Override PartName="/ppt/slideLayouts/_rels/slideLayout495.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941.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976.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83.xml.rels" ContentType="application/vnd.openxmlformats-package.relationships+xml"/>
  <Override PartName="/ppt/slideLayouts/_rels/slideLayout92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70.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65.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971.xml.rels" ContentType="application/vnd.openxmlformats-package.relationships+xml"/>
  <Override PartName="/ppt/slideLayouts/_rels/slideLayout913.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874.xml.rels" ContentType="application/vnd.openxmlformats-package.relationships+xml"/>
  <Override PartName="/ppt/slideLayouts/_rels/slideLayout816.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768.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05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460.xml.rels" ContentType="application/vnd.openxmlformats-package.relationships+xml"/>
  <Override PartName="/ppt/slideLayouts/_rels/slideLayout960.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911.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999.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99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997.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996.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84.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8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798.xml" ContentType="application/vnd.openxmlformats-officedocument.presentationml.slideLayout+xml"/>
  <Override PartName="/ppt/slideLayouts/slideLayout799.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5.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39.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17.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8.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659.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800.xml" ContentType="application/vnd.openxmlformats-officedocument.presentationml.slideLayout+xml"/>
  <Override PartName="/ppt/slideLayouts/slideLayout928.xml" ContentType="application/vnd.openxmlformats-officedocument.presentationml.slideLayout+xml"/>
  <Override PartName="/ppt/slideLayouts/slideLayout1045.xml" ContentType="application/vnd.openxmlformats-officedocument.presentationml.slideLayout+xml"/>
  <Override PartName="/ppt/slideLayouts/slideLayout762.xml" ContentType="application/vnd.openxmlformats-officedocument.presentationml.slideLayout+xml"/>
  <Override PartName="/ppt/slideLayouts/slideLayout625.xml" ContentType="application/vnd.openxmlformats-officedocument.presentationml.slideLayout+xml"/>
  <Override PartName="/ppt/slideLayouts/slideLayout801.xml" ContentType="application/vnd.openxmlformats-officedocument.presentationml.slideLayout+xml"/>
  <Override PartName="/ppt/slideLayouts/slideLayout1046.xml" ContentType="application/vnd.openxmlformats-officedocument.presentationml.slideLayout+xml"/>
  <Override PartName="/ppt/slideLayouts/slideLayout929.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802.xml" ContentType="application/vnd.openxmlformats-officedocument.presentationml.slideLayout+xml"/>
  <Override PartName="/ppt/slideLayouts/slideLayout1047.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803.xml" ContentType="application/vnd.openxmlformats-officedocument.presentationml.slideLayout+xml"/>
  <Override PartName="/ppt/slideLayouts/slideLayout1048.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810.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1055.xml" ContentType="application/vnd.openxmlformats-officedocument.presentationml.slideLayout+xml"/>
  <Override PartName="/ppt/slideLayouts/slideLayout635.xml" ContentType="application/vnd.openxmlformats-officedocument.presentationml.slideLayout+xml"/>
  <Override PartName="/ppt/slideLayouts/slideLayout811.xml" ContentType="application/vnd.openxmlformats-officedocument.presentationml.slideLayout+xml"/>
  <Override PartName="/ppt/slideLayouts/slideLayout773.xml" ContentType="application/vnd.openxmlformats-officedocument.presentationml.slideLayout+xml"/>
  <Override PartName="/ppt/slideLayouts/slideLayout1056.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812.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949.xml" ContentType="application/vnd.openxmlformats-officedocument.presentationml.slideLayout+xml"/>
  <Override PartName="/ppt/slideLayouts/slideLayout646.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7.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722.xml" ContentType="application/vnd.openxmlformats-officedocument.presentationml.slideLayout+xml"/>
  <Override PartName="/ppt/slideLayouts/slideLayout790.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915.xml" ContentType="application/vnd.openxmlformats-officedocument.presentationml.slideLayout+xml"/>
  <Override PartName="/ppt/slideLayouts/slideLayout1032.xml" ContentType="application/vnd.openxmlformats-officedocument.presentationml.slideLayout+xml"/>
  <Override PartName="/ppt/slideLayouts/slideLayout612.xml" ContentType="application/vnd.openxmlformats-officedocument.presentationml.slideLayout+xml"/>
  <Override PartName="/ppt/slideLayouts/slideLayout983.xml" ContentType="application/vnd.openxmlformats-officedocument.presentationml.slideLayout+xml"/>
  <Override PartName="/ppt/slideLayouts/slideLayout72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1035.xml" ContentType="application/vnd.openxmlformats-officedocument.presentationml.slideLayout+xml"/>
  <Override PartName="/ppt/slideLayouts/slideLayout615.xml" ContentType="application/vnd.openxmlformats-officedocument.presentationml.slideLayout+xml"/>
  <Override PartName="/ppt/slideLayouts/slideLayout726.xml" ContentType="application/vnd.openxmlformats-officedocument.presentationml.slideLayout+xml"/>
  <Override PartName="/ppt/slideLayouts/slideLayout1009.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1036.xml" ContentType="application/vnd.openxmlformats-officedocument.presentationml.slideLayout+xml"/>
  <Override PartName="/ppt/slideLayouts/slideLayout616.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1034.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985.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1042.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93.xml" ContentType="application/vnd.openxmlformats-officedocument.presentationml.slideLayout+xml"/>
  <Override PartName="/ppt/slideLayouts/slideLayout735.xml" ContentType="application/vnd.openxmlformats-officedocument.presentationml.slideLayout+xml"/>
  <Override PartName="/ppt/slideLayouts/slideLayout945.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36.xml" ContentType="application/vnd.openxmlformats-officedocument.presentationml.slideLayout+xml"/>
  <Override PartName="/ppt/slideLayouts/slideLayout1019.xml" ContentType="application/vnd.openxmlformats-officedocument.presentationml.slideLayout+xml"/>
  <Override PartName="/ppt/slideLayouts/slideLayout946.xml" ContentType="application/vnd.openxmlformats-officedocument.presentationml.slideLayout+xml"/>
  <Override PartName="/ppt/slideLayouts/slideLayout780.xml" ContentType="application/vnd.openxmlformats-officedocument.presentationml.slideLayout+xml"/>
  <Override PartName="/ppt/slideLayouts/slideLayout754.xml" ContentType="application/vnd.openxmlformats-officedocument.presentationml.slideLayout+xml"/>
  <Override PartName="/ppt/slideLayouts/slideLayout1037.xml" ContentType="application/vnd.openxmlformats-officedocument.presentationml.slideLayout+xml"/>
  <Override PartName="/ppt/slideLayouts/slideLayout617.xml" ContentType="application/vnd.openxmlformats-officedocument.presentationml.slideLayout+xml"/>
  <Override PartName="/ppt/slideLayouts/slideLayout947.xml" ContentType="application/vnd.openxmlformats-officedocument.presentationml.slideLayout+xml"/>
  <Override PartName="/ppt/slideLayouts/slideLayout781.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973.xml" ContentType="application/vnd.openxmlformats-officedocument.presentationml.slideLayout+xml"/>
  <Override PartName="/ppt/slideLayouts/slideLayout105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755.xml" ContentType="application/vnd.openxmlformats-officedocument.presentationml.slideLayout+xml"/>
  <Override PartName="/ppt/slideLayouts/slideLayout1038.xml" ContentType="application/vnd.openxmlformats-officedocument.presentationml.slideLayout+xml"/>
  <Override PartName="/ppt/slideLayouts/slideLayout618.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1044.xml" ContentType="application/vnd.openxmlformats-officedocument.presentationml.slideLayout+xml"/>
  <Override PartName="/ppt/slideLayouts/slideLayout761.xml" ContentType="application/vnd.openxmlformats-officedocument.presentationml.slideLayout+xml"/>
  <Override PartName="/ppt/slideLayouts/slideLayout995.xml" ContentType="application/vnd.openxmlformats-officedocument.presentationml.slideLayout+xml"/>
  <Override PartName="/ppt/slideLayouts/slideLayout224.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974.xml" ContentType="application/vnd.openxmlformats-officedocument.presentationml.slideLayout+xml"/>
  <Override PartName="/ppt/slideLayouts/slideLayout105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63.xml" ContentType="application/vnd.openxmlformats-officedocument.presentationml.slideLayout+xml"/>
  <Override PartName="/ppt/slideLayouts/slideLayout1043.xml" ContentType="application/vnd.openxmlformats-officedocument.presentationml.slideLayout+xml"/>
  <Override PartName="/ppt/slideLayouts/slideLayout760.xml" ContentType="application/vnd.openxmlformats-officedocument.presentationml.slideLayout+xml"/>
  <Override PartName="/ppt/slideLayouts/slideLayout926.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975.xml" ContentType="application/vnd.openxmlformats-officedocument.presentationml.slideLayout+xml"/>
  <Override PartName="/ppt/slideLayouts/slideLayout964.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23.xml" ContentType="application/vnd.openxmlformats-officedocument.presentationml.slideLayout+xml"/>
  <Override PartName="/ppt/slideLayouts/slideLayout791.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984.xml" ContentType="application/vnd.openxmlformats-officedocument.presentationml.slideLayout+xml"/>
  <Override PartName="/ppt/slideLayouts/slideLayout916.xml" ContentType="application/vnd.openxmlformats-officedocument.presentationml.slideLayout+xml"/>
  <Override PartName="/ppt/slideLayouts/slideLayout1033.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746.xml" ContentType="application/vnd.openxmlformats-officedocument.presentationml.slideLayout+xml"/>
  <Override PartName="/ppt/slideLayouts/slideLayout1029.xml" ContentType="application/vnd.openxmlformats-officedocument.presentationml.slideLayout+xml"/>
  <Override PartName="/ppt/slideLayouts/slideLayout609.xml" ContentType="application/vnd.openxmlformats-officedocument.presentationml.slideLayout+xml"/>
  <Override PartName="/ppt/slideLayouts/slideLayout962.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61.xml" ContentType="application/vnd.openxmlformats-officedocument.presentationml.slideLayout+xml"/>
  <Override PartName="/ppt/slideLayouts/slideLayout104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960.xml" ContentType="application/vnd.openxmlformats-officedocument.presentationml.slideLayout+xml"/>
  <Override PartName="/ppt/slideLayouts/slideLayout104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35.xml" ContentType="application/vnd.openxmlformats-officedocument.presentationml.slideLayout+xml"/>
  <Override PartName="/ppt/slideLayouts/slideLayout1052.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55.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50.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52.xml" ContentType="application/vnd.openxmlformats-officedocument.presentationml.slideLayout+xml"/>
  <Override PartName="/ppt/slideLayouts/slideLayout951.xml" ContentType="application/vnd.openxmlformats-officedocument.presentationml.slideLayout+xml"/>
  <Override PartName="/ppt/slideLayouts/slideLayout103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733.xml" ContentType="application/vnd.openxmlformats-officedocument.presentationml.slideLayout+xml"/>
  <Override PartName="/ppt/slideLayouts/slideLayout994.xml" ContentType="application/vnd.openxmlformats-officedocument.presentationml.slideLayout+xml"/>
  <Override PartName="/ppt/slideLayouts/slideLayout223.xml" ContentType="application/vnd.openxmlformats-officedocument.presentationml.slideLayout+xml"/>
  <Override PartName="/ppt/slideLayouts/slideLayout103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50.xml" ContentType="application/vnd.openxmlformats-officedocument.presentationml.slideLayout+xml"/>
  <Override PartName="/ppt/slideLayouts/slideLayout94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4.xml" ContentType="application/vnd.openxmlformats-officedocument.presentationml.slideLayout+xml"/>
  <Override PartName="/ppt/slideLayouts/slideLayout1051.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1050.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731.xml" ContentType="application/vnd.openxmlformats-officedocument.presentationml.slideLayout+xml"/>
  <Override PartName="/ppt/slideLayouts/slideLayout992.xml" ContentType="application/vnd.openxmlformats-officedocument.presentationml.slideLayout+xml"/>
  <Override PartName="/ppt/slideLayouts/slideLayout730.xml" ContentType="application/vnd.openxmlformats-officedocument.presentationml.slideLayout+xml"/>
  <Override PartName="/ppt/slideLayouts/slideLayout991.xml" ContentType="application/vnd.openxmlformats-officedocument.presentationml.slideLayout+xml"/>
  <Override PartName="/ppt/slideLayouts/slideLayout99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721.xml" ContentType="application/vnd.openxmlformats-officedocument.presentationml.slideLayout+xml"/>
  <Override PartName="/ppt/slideLayouts/slideLayout982.xml" ContentType="application/vnd.openxmlformats-officedocument.presentationml.slideLayout+xml"/>
  <Override PartName="/ppt/slideLayouts/slideLayout720.xml" ContentType="application/vnd.openxmlformats-officedocument.presentationml.slideLayout+xml"/>
  <Override PartName="/ppt/slideLayouts/slideLayout981.xml" ContentType="application/vnd.openxmlformats-officedocument.presentationml.slideLayout+xml"/>
  <Override PartName="/ppt/slideLayouts/slideLayout98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104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989.xml" ContentType="application/vnd.openxmlformats-officedocument.presentationml.slideLayout+xml"/>
  <Override PartName="/ppt/slideLayouts/slideLayout33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157.xml" ContentType="application/vnd.openxmlformats-officedocument.presentationml.slideLayout+xml"/>
  <Override PartName="/ppt/slideLayouts/slideLayout988.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98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98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979.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978.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977.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97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5.jpeg" ContentType="image/jpeg"/>
  <Override PartName="/ppt/media/image24.wmf" ContentType="image/x-wmf"/>
  <Override PartName="/ppt/media/image23.jpeg" ContentType="image/jpeg"/>
  <Override PartName="/ppt/media/image21.png" ContentType="image/png"/>
  <Override PartName="/ppt/media/image19.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Lst>
  <p:notesMasterIdLst>
    <p:notesMasterId r:id="rId90"/>
  </p:notesMasterIdLst>
  <p:sldIdLst>
    <p:sldId id="256" r:id="rId91"/>
    <p:sldId id="257" r:id="rId92"/>
    <p:sldId id="258" r:id="rId93"/>
    <p:sldId id="259" r:id="rId94"/>
    <p:sldId id="260" r:id="rId95"/>
    <p:sldId id="261" r:id="rId96"/>
    <p:sldId id="262" r:id="rId97"/>
    <p:sldId id="263" r:id="rId98"/>
    <p:sldId id="264" r:id="rId99"/>
    <p:sldId id="265" r:id="rId100"/>
    <p:sldId id="266" r:id="rId101"/>
    <p:sldId id="267" r:id="rId102"/>
    <p:sldId id="268" r:id="rId103"/>
    <p:sldId id="269" r:id="rId104"/>
    <p:sldId id="270" r:id="rId105"/>
    <p:sldId id="271" r:id="rId106"/>
    <p:sldId id="272" r:id="rId107"/>
    <p:sldId id="273" r:id="rId108"/>
    <p:sldId id="274" r:id="rId109"/>
    <p:sldId id="275" r:id="rId110"/>
    <p:sldId id="276" r:id="rId111"/>
    <p:sldId id="277" r:id="rId112"/>
    <p:sldId id="278" r:id="rId113"/>
    <p:sldId id="279" r:id="rId114"/>
    <p:sldId id="280" r:id="rId115"/>
    <p:sldId id="281" r:id="rId116"/>
    <p:sldId id="282" r:id="rId117"/>
    <p:sldId id="283" r:id="rId118"/>
    <p:sldId id="284" r:id="rId1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notesMaster" Target="notesMasters/notesMaster1.xml"/><Relationship Id="rId91" Type="http://schemas.openxmlformats.org/officeDocument/2006/relationships/slide" Target="slides/slide1.xml"/><Relationship Id="rId92" Type="http://schemas.openxmlformats.org/officeDocument/2006/relationships/slide" Target="slides/slide2.xml"/><Relationship Id="rId93" Type="http://schemas.openxmlformats.org/officeDocument/2006/relationships/slide" Target="slides/slide3.xml"/><Relationship Id="rId94" Type="http://schemas.openxmlformats.org/officeDocument/2006/relationships/slide" Target="slides/slide4.xml"/><Relationship Id="rId95" Type="http://schemas.openxmlformats.org/officeDocument/2006/relationships/slide" Target="slides/slide5.xml"/><Relationship Id="rId96" Type="http://schemas.openxmlformats.org/officeDocument/2006/relationships/slide" Target="slides/slide6.xml"/><Relationship Id="rId97" Type="http://schemas.openxmlformats.org/officeDocument/2006/relationships/slide" Target="slides/slide7.xml"/><Relationship Id="rId98" Type="http://schemas.openxmlformats.org/officeDocument/2006/relationships/slide" Target="slides/slide8.xml"/><Relationship Id="rId99" Type="http://schemas.openxmlformats.org/officeDocument/2006/relationships/slide" Target="slides/slide9.xml"/><Relationship Id="rId100" Type="http://schemas.openxmlformats.org/officeDocument/2006/relationships/slide" Target="slides/slide10.xml"/><Relationship Id="rId101" Type="http://schemas.openxmlformats.org/officeDocument/2006/relationships/slide" Target="slides/slide11.xml"/><Relationship Id="rId102" Type="http://schemas.openxmlformats.org/officeDocument/2006/relationships/slide" Target="slides/slide12.xml"/><Relationship Id="rId103" Type="http://schemas.openxmlformats.org/officeDocument/2006/relationships/slide" Target="slides/slide13.xml"/><Relationship Id="rId104" Type="http://schemas.openxmlformats.org/officeDocument/2006/relationships/slide" Target="slides/slide14.xml"/><Relationship Id="rId105" Type="http://schemas.openxmlformats.org/officeDocument/2006/relationships/slide" Target="slides/slide15.xml"/><Relationship Id="rId106" Type="http://schemas.openxmlformats.org/officeDocument/2006/relationships/slide" Target="slides/slide16.xml"/><Relationship Id="rId107" Type="http://schemas.openxmlformats.org/officeDocument/2006/relationships/slide" Target="slides/slide17.xml"/><Relationship Id="rId108" Type="http://schemas.openxmlformats.org/officeDocument/2006/relationships/slide" Target="slides/slide18.xml"/><Relationship Id="rId109" Type="http://schemas.openxmlformats.org/officeDocument/2006/relationships/slide" Target="slides/slide19.xml"/><Relationship Id="rId110" Type="http://schemas.openxmlformats.org/officeDocument/2006/relationships/slide" Target="slides/slide20.xml"/><Relationship Id="rId111" Type="http://schemas.openxmlformats.org/officeDocument/2006/relationships/slide" Target="slides/slide21.xml"/><Relationship Id="rId112" Type="http://schemas.openxmlformats.org/officeDocument/2006/relationships/slide" Target="slides/slide22.xml"/><Relationship Id="rId113" Type="http://schemas.openxmlformats.org/officeDocument/2006/relationships/slide" Target="slides/slide23.xml"/><Relationship Id="rId114" Type="http://schemas.openxmlformats.org/officeDocument/2006/relationships/slide" Target="slides/slide24.xml"/><Relationship Id="rId115" Type="http://schemas.openxmlformats.org/officeDocument/2006/relationships/slide" Target="slides/slide25.xml"/><Relationship Id="rId116" Type="http://schemas.openxmlformats.org/officeDocument/2006/relationships/slide" Target="slides/slide26.xml"/><Relationship Id="rId117" Type="http://schemas.openxmlformats.org/officeDocument/2006/relationships/slide" Target="slides/slide27.xml"/><Relationship Id="rId118" Type="http://schemas.openxmlformats.org/officeDocument/2006/relationships/slide" Target="slides/slide28.xml"/><Relationship Id="rId119" Type="http://schemas.openxmlformats.org/officeDocument/2006/relationships/slide" Target="slides/slide29.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3599" name="PlaceHolder 1"/>
          <p:cNvSpPr>
            <a:spLocks noGrp="1"/>
          </p:cNvSpPr>
          <p:nvPr>
            <p:ph type="sldImg"/>
          </p:nvPr>
        </p:nvSpPr>
        <p:spPr>
          <a:xfrm>
            <a:off x="1181160" y="696960"/>
            <a:ext cx="4648320" cy="3486240"/>
          </a:xfrm>
          <a:prstGeom prst="rect">
            <a:avLst/>
          </a:prstGeom>
          <a:noFill/>
          <a:ln w="0">
            <a:noFill/>
          </a:ln>
        </p:spPr>
        <p:txBody>
          <a:bodyPr lIns="93240" rIns="93240" tIns="46440" bIns="46440" anchor="t">
            <a:noAutofit/>
          </a:bodyPr>
          <a:p>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36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lick to edit the notes format</a:t>
            </a:r>
            <a:endParaRPr b="0" lang="en-US" sz="2400" spc="-1" strike="noStrike">
              <a:solidFill>
                <a:srgbClr val="572e2d"/>
              </a:solidFill>
              <a:latin typeface="Noteworthy Bol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7391F-3252-4CAE-B355-5D5796A9CC4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774" name="PlaceHolder 1"/>
          <p:cNvSpPr>
            <a:spLocks noGrp="1"/>
          </p:cNvSpPr>
          <p:nvPr>
            <p:ph type="sldImg"/>
          </p:nvPr>
        </p:nvSpPr>
        <p:spPr>
          <a:xfrm>
            <a:off x="1181160" y="696960"/>
            <a:ext cx="4648320" cy="3486240"/>
          </a:xfrm>
          <a:prstGeom prst="rect">
            <a:avLst/>
          </a:prstGeom>
          <a:ln w="0">
            <a:noFill/>
          </a:ln>
        </p:spPr>
      </p:sp>
      <p:sp>
        <p:nvSpPr>
          <p:cNvPr id="37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xplain that CRI is an approach to teaching. At it’s strongest, it’s a belief system in that teachers have faith in it’s ability to help instruction be more relevant and meaningful for students—a belief system that this is the only type of teaching worth doing. At it’s minimum it’s a framework for checking your instructional practices and asking yourself: did I connect my teaching to students’ home lives? Did I provide multiple opportunities for them to talk and listen to each other? Have I maintained high standards? Am I using wait time and providing every student with opportunities to do and share high-level thinking? Finally, am I setting students up for success by supporting their learning intentionall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nking about chapter 4 only. Divide the class into 5 new groups. Each group gets a bullet. What ideas in the chapter align with each bullet? </a:t>
            </a:r>
            <a:endParaRPr b="0" lang="en-US" sz="2400" spc="-1" strike="noStrike">
              <a:solidFill>
                <a:srgbClr val="572e2d"/>
              </a:solidFill>
              <a:latin typeface="Noteworthy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PlaceHolder 1"/>
          <p:cNvSpPr>
            <a:spLocks noGrp="1"/>
          </p:cNvSpPr>
          <p:nvPr>
            <p:ph type="sldImg"/>
          </p:nvPr>
        </p:nvSpPr>
        <p:spPr>
          <a:xfrm>
            <a:off x="1181160" y="696960"/>
            <a:ext cx="4648320" cy="3486240"/>
          </a:xfrm>
          <a:prstGeom prst="rect">
            <a:avLst/>
          </a:prstGeom>
          <a:ln w="0">
            <a:noFill/>
          </a:ln>
        </p:spPr>
      </p:sp>
      <p:sp>
        <p:nvSpPr>
          <p:cNvPr id="37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3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ED569-7D60-454C-B6B1-F1E2ED429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F9039368-21E4-43A9-9FA5-BAC46C2A06C9}"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7B27E37E-5C81-41C2-A01F-C925A2FF973C}"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4BDEED7A-65D8-4BBF-84B7-DCF973B1DE1F}"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5165F404-77ED-46FC-B678-471CA56318B0}"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FF02309D-F1DE-4224-B8C1-3F3A95B90BBB}"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9B605DB0-C074-499A-A7DC-14A9885953E4}"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E6E4B03D-8421-4164-A462-068E1D90EDF8}"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16C7555C-254A-4D70-BF61-819028C80D8C}"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9991255C-B540-4BBB-A6A4-4088588670FA}"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7B0F2099-672F-4C7C-8F05-26FF51BBBEF5}"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9110A32D-5881-4A32-810E-BD359C2FC304}"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B4C157CA-1672-4278-8AFE-09BE50720FEC}"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8EA9F983-6A0D-4224-9513-F6A88040EAC4}"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4DA3073C-D107-4745-AEE6-A2C9E7B6A4D7}"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352E9D44-CF21-4ADE-9C6B-21C754723F80}"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CD359FDE-0ED4-4E45-89BA-F07E01F410F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AD2962C9-41F9-468D-AA0A-5CBB020CF657}"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8343D252-671E-4471-8DCC-2E7EAB0ACAA3}"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7DF8156D-F17E-43CB-BD0B-1B02FB7F5074}"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83B204B5-75C9-4E07-A027-A615222AC34B}"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3BD860D6-775C-4676-8022-45B1A51D159A}"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EC6C3B1D-5F64-43AB-A0F9-679ED8B019E6}"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87E7680F-26D8-4F02-855F-1835F63FE5CA}"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C1B9F4D6-BCA5-466F-983A-81F5AB75CC66}"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FBA1EE56-7C2A-4F8F-A64D-2ED056FAE0E9}"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CD7DAEEF-1369-47AA-A9A8-3C9CD8E768A0}"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E7B300A4-0E7E-4E46-84EB-6D5F1D86A01D}"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71085A75-A8C6-464A-8A0C-00392F00A589}"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B3ED6FF-7B4C-45ED-A2BF-D70FC1B5E66F}"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65ED70A3-2966-4300-A6BB-C87FAF3BFBE7}"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E84E5205-71E8-416E-B7FF-3014B51949AB}"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827C6313-917A-48B0-B9AE-68A57BA4848F}"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F4F29991-59AC-4AF6-B174-E69986FFB74A}"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10593C43-C96C-4411-BDDA-353285A837C2}"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6F6ABB4A-ED9D-49B4-AA01-46530E8E11EF}"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151AE784-06AE-4FCD-B686-A22AC7E81E6B}"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5647335B-B030-4F63-B620-A94498EEBE8B}"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A197464F-33B3-4C23-85BF-6C5B80815822}"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8A492B3E-7E3C-445B-9AB8-578D4D266762}"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512350BD-EE1D-47BE-9CB1-C6371E783110}"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2CD3DF1E-07A2-4B4A-8D68-650D08C69BF4}"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B431614D-2C32-4149-9331-EAD7F0858441}"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75DDF6C1-4482-4859-8EEE-3A4CEEB12283}"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FE4F6485-3924-4560-A371-F03366A2507A}"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BF3C056D-2B67-4442-BD18-319942D478D4}"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7C2A1D0F-23C9-4706-96B2-B7F405EC3F62}"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19C60D3F-13B7-488D-AE19-D3B73CBC648F}"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242D7F7E-3290-4E4E-9351-61856A203C6C}"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8D7B7FF5-23E4-4B46-AC91-A952BDE8EAE0}"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65B64F5C-D46B-41DC-BE5A-377920B1B0ED}"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C499B0AE-9D4E-42C1-A3F9-801FAD4FDFAD}"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AF810F6D-EDEE-458E-BF46-89129F02C911}"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D9E47D14-A18F-448D-B333-A10EA80B5C2B}"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6DC15D9B-2CCC-4D81-8344-B380A7B625D0}"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275ACE91-1569-4B28-A106-E79BDD05D2C0}"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80623FCD-0FAC-4A20-BCCC-4F57BB89C2BA}"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A81C54A1-4310-45BB-B0B9-82CBC951BC7B}"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C7EC1C-9905-4CB2-B4D9-390CC55DF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5502B-438F-481E-A278-5D2E8454E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CB303-0E27-42DD-8830-6A0909656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9EA23-2AB9-47F7-9A3F-2AF5CEA1C8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66FF0-D5EC-4CFF-9673-EE3D599CF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5AA08-B956-48BF-986B-24B18B41D8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2537E4-3A10-458D-946B-B7B5AD47A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E0D64-77B4-4D9B-B3A5-5D60F76D2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67ECF-AB6F-42E1-BB66-504DB9C6C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BB1B0-2E75-4736-8E29-F42B68768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3B8361-E1FA-4410-B938-9516415CC5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56B8D-C247-4895-AA34-738E0E0BBF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8D5485-EEC6-4088-8747-B8E6A9B300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E60DC-5098-407A-A4A8-686816F1D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C00794-6013-41B1-BBBF-67D7BB4256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A69D1-094C-4207-BEFA-4257941F7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A6D17-DF77-43D3-A06E-C8B268A54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A388B-014D-4DD6-A014-F8016CC38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1E735-96F9-477B-8134-DB39C2253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0CDF8-5063-4DF5-8610-6899DC3F2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02BB3-562D-4C18-A8C6-991517112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9FBDA-34C5-423A-8E1A-6CFCBA7B3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3BBA1C-6434-401A-80E1-FD28F9443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A44B3-1626-4A64-8EAF-DCD763B8A0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38A7EF-A1BB-462E-BCEF-A6A6665F69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883F36-D8B7-4B47-B5EF-15D965D4EC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27D2C-CA75-4326-8DB1-453BCD9C6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1B35BB-FCC5-4A1D-BAA7-529C1D09E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E0C44-7435-4155-B7E2-307CC2F9C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7BDD6-B31B-4CFD-96E5-65899BEAE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91D3A-D76A-4427-BA4D-6FE62C884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18331B-4B31-4BC3-B095-ECDF9407D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F1A0F-8324-41A3-87D0-BD57681F3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B1BC9-B47C-45AF-B90C-7D2309D89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4B18BD-A4BE-4619-953A-2BC45650C7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9A8B54-6982-4CB9-AF51-4167107375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4774F3-AEEB-4087-B9C1-4EA63F35B1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B130C7-0C37-4F36-A5F7-BDE0EDF039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60300C-B0EC-43E5-9D86-DB93FD2661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2318FF-1D3D-48AA-87CD-B5936C5839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D5EC8F-A1B5-4DA6-ADBD-C9B03C8C24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CE6F58-31A7-445E-B13B-EE430FC820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722FDA-88E6-42D6-A4D1-12AD76F80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EDCFE2-F509-4B84-9E7B-80A7602008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871A95-50C0-47C0-BA14-C59010AEE7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A12EDD-EC10-484C-94C5-F88F4DB1D6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3E2F52-001C-4B2C-A320-52319F2EFB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10B9D2-975B-40B0-8F6A-082C2F567D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36E6BD-005F-4D36-9B7E-5ED629A149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E86E48-45CF-4798-8A0D-DAFACCDCAD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CFECAC-FD63-4BDC-936E-1FF8849066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2C8100-B70C-4329-A763-5FFEDEC348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71AA48-4EA5-44F5-B80A-FB09C09104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78D92A-34EE-41E2-9282-FF1CA3FD0B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B4A954-D9E7-4087-867B-353CADDD6C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83DD59-80F5-46E4-A46C-2B055D7894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4A00E7-C81F-41BA-BEDD-544F407634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D9DAF9-4FD5-4A8B-9290-AA4646CDC3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D366FB-60AD-4E3D-B0D0-EE2ED527DD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59B27F-A648-4933-A56C-B08B5AC00A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FEED41-64A4-4C31-863E-3A87316814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2B9EFA-4FA8-4525-9901-6030A0906E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7B457A-5861-4AFF-9242-34F6DFE571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220D93-FD00-49F8-8F57-7D9D44DB02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07DB4C-3A9B-436C-8753-47D6A2E6BD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165AD6-7D66-4606-BB68-92A55D8CD7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F5A3AF-A9C0-40A2-81A1-52FAC4713F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6FB6D2-2C1B-427E-BB4C-629AC4A59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BF5FD7-CF5E-44C7-9951-3486E6F7C2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320B82-D285-42CB-9C3B-5EB4ADA06A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824DD9-F6BB-49E1-8CE0-487B7B620F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5C40D9-24BB-4272-8B61-B7AF897172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1A7ACB-ABAC-462F-8FA1-5712F83F13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5C6682-168E-40A1-9C85-97C04301B5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8EEC45-3554-49EC-902E-EEFF5EBE6B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E84B21-2FBF-4CEA-A136-F4E4C9486C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065852-DB23-49EC-9BC0-C138053156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1D374E-38E8-44F7-AE7F-740B769376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9E642A-DEDF-44BD-BB3D-A756DBB5B3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F590E7-5D6F-4955-A260-3E278DEFB3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77744D-B3E4-4149-8BE9-7937D090BB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13061-7F90-47B3-893A-D64923CA04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948470-DF3D-4B04-854F-70A7E9990D7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26C0CF-DA95-4F64-A7F5-33FEA77781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F5F02C-01E1-45B9-8FF6-D6F7B56A665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24C25E-8BEE-4DFF-BACF-798D9BC575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19651D-C1F0-453A-B8E7-A71CF55628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1055A5-71D1-45F9-B379-CD37E92F07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9B259F-E2C9-49DC-841E-4C0F40007C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843217-6889-4156-9488-423A80872B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23010E-81E3-44B0-9646-5C3A7D094D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F7D61E-EB4C-4B62-AFC6-E0E2E119C8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0F3693-4B68-4FE4-B8BE-425C159106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F1D5A6-D824-4DA1-8A9E-1242064DE3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130A22-8254-4DDB-B2D7-1E9955B132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1CAF8D7-ECA5-49CA-8B2B-F9B5A72F3F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F6240E-519D-4AFE-A4EB-CE2F04CECF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C45BC5-EB79-4079-B888-A348793190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7D5DE4-511E-47A1-A3B6-442A09CD2E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463BA0-55ED-4FA1-9E71-9D2E391F94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37236D-2E0F-456E-8498-1190EE3735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13084E-AC20-4260-8C5C-7CD97EF0A2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B79E57-26AB-46B1-AE48-253F8B4B19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8B5108-FACC-473A-8F3F-723AC11402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3D4923-77FE-4E67-9500-D3B2677DD3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5645E7-29BD-48F7-B3E1-3255DA565B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EC0980C-125D-496D-A598-8832F93EBA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EA1A55-7F67-4585-BFC4-B53E564FD7B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C911353-C5FF-44CB-B2D4-CFED9CCAEF4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5EED26-D7F9-4464-AA00-6A4DE0CD41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DE5E4F-7616-4379-920E-2F4F9E5107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73F99E-DED4-4B67-92C7-8A09E10DC8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C38E87-D2DD-4E13-9B2E-AD1D8ABC79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41B311-9E49-4074-8368-D2B610BD0E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ADD516-F7AE-4F0B-BF95-BAB889FD55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DEEB60-7FBA-4311-876F-AF34CF126C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73E3CB-6DD4-4876-8DD0-222E736CC1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C3E0EE1-2AF1-4CAD-8382-FB6DE5FC80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68FD51C-97AF-4710-89E3-B7736C65389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F2F74A-5D12-46FF-8917-6837AC39B8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978FCDE-2572-4117-BA54-8AE78AD3FDD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C928DB-3CAD-45A1-968C-30EE32E122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7132653-8D86-4F83-90C5-5BA99576BC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C73636-AE88-4E25-9A38-AE435FF75E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2377E2-3719-4398-9EA5-42D382C54D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B0F80D-2931-4211-8194-6BA8EED20B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67F379-64E1-4DDC-BA15-82ECA3DC2E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1E20BC-1664-45B9-9C43-A5809655F8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5D6A9A-B878-45FD-8CAA-FD6EFDE536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3CB42F-C73C-471D-9628-E95F94D172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928B9AA-8635-48E1-9586-1664B8998B4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9BB612-277E-4102-B005-7920BB6D1D6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4136A7D-3E5F-4FEA-9C5A-53B53A4B1F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5B96C86-2B9A-4626-8ABE-A4102AA6AF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A9D6BBB-B809-43DB-9C88-FB21D65BFE0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1C7E3C7-507A-4A71-AC4E-E03DFF88AA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F90BFD4-3C11-4286-88FA-03AF2DECF1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53E0F9-2477-4E25-8C07-5C790BC351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85BBED-D03C-4367-908A-FC53DD205C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85A38C-06D9-4FE7-9CA9-E713CEE456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B15311-3180-4197-BE69-268E8C0FB90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E493-90DD-46C3-8167-E303970C7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A0228B-E5B8-4461-8234-6092F3EFE1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B9CF153-3EF2-4327-894B-765404935B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10FCF7D-4554-4D08-BBF1-B442E5B9CDE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7FDFA6-C365-4BDA-86D9-F36EF1DC67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4BB2BF-BAC2-4111-ACB3-2E3F2F74F5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1C8D5C-DCD7-4DEA-BC91-6B684A64C90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762CA8-21D9-4F15-9BFF-FC36B7E998C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AC7C671-29C3-4C2E-ACA6-C2A2FC2089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B2993D-DAAD-43A6-AF72-93A27143F1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834A87-35A1-4914-BE71-E5B6C3DAE2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8FD09-F603-4BAC-8CF0-32D52490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C3FDDA-6194-4600-A530-85EE50C1E7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C5CC12-3F1B-47FF-AF7D-6FF5FCD940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9963454-765E-4ED9-8682-802A00F963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44DA8F1-3B79-43FE-A23D-4DCD75AB2C7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19D49F8-5299-4991-B7A9-97796F7745C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34F990-4D1D-4677-888D-C8FA8020E63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2FDE8D-60FA-49C8-AA29-4FE14A11E7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1D975F-C82E-45D7-AEB7-3A0F2EA0EDF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567856-4F28-46E2-82DB-1B5FAC510B6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F3116B-6472-4E85-BC79-1D96DC17AEC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73A3-D249-4B0C-BE8F-5CA27F18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1B64A6C-7018-47B5-8386-6E748D450FD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3AC9FB-894E-4F2E-95C6-63B3DF863D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BB666B-6C82-457C-950B-0DF8A2002F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7D4A03-E3F4-45AC-9F52-B9E6FE4B6C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275505-A295-4530-8AE1-48D9E36EA0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56FB2A-5629-4973-9072-EF263B27D0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4D43A26-DF09-4A81-9118-B3029CB764A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D3544F5-47A6-4127-8CBE-AA0C3F327A0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C35801-A483-41BF-8A1D-3B8823AD5A7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AC885D2-8B93-4779-8A20-6EB36C032E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63B6-009C-4237-B32B-949FD7F0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63C8774-E764-4509-AA29-4FDC86378BB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5A5886A-1991-4E28-B57B-8303849AE66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D2EA331-A556-4788-90E3-CCFA5D2C02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D3DCF8-11D8-40AA-8FE1-AE5075CBFC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B47162-ECF4-4AC2-944D-802E1F9A3A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8F8CAE1-83DB-4A38-A75E-C0088B9F3D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49B1DD-4A8C-4B10-97DD-7D76EC1984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D5DF06D-1D20-4C36-B54C-38677AA8C65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7FC1B18-6891-4EFB-9CD7-F92ED4FB44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115D3CA-7909-4EB0-9FB7-921BCAC8F1D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611AC-49C6-43C8-9C33-68603ED8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5F7052B-0D29-41FC-AFD0-0FBB49807B1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FAD181-8976-41F8-9F04-F2515ABD336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4E3451D-A674-4E15-A2EC-0B67DB83BA0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5EB28C-BD88-45F6-9088-EAED7CDEAEB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9DA88CC-F685-4151-B22E-8ADDC21921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32794F-6F09-47A0-B6D6-A9D9D08B6B4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C549BF-E90E-46A1-9B05-AD69C891FF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8793BA-0A49-418B-9A99-DA3AE13C0C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07A1AFD-8281-4C98-9AAF-D924F4FF4DA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1422893-AD0B-45C2-AD9B-44DE664458C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64D4-FFC2-48B7-B0FA-0A7610D1A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6A87762-ACE9-45FC-860A-BC442BEC212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63BDDE8-A3A7-4B59-907F-4117123344A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F8E902-4C37-4D13-B10F-97D256D6BF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4E4A0C2-8673-49A8-A55B-032A5E42CA9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DACCDB-23B3-4968-9AD6-C5F1A0E9F2E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DDB8200-EBF2-4F70-B18C-6F23B6C28A6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5F26A1D-8B92-46B2-9250-C02460C38F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B8AF7F-2F06-4738-A5B7-B433CCB440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950068-02AB-44B0-989A-F9A026F8894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E5C935-A03F-4D56-B126-A7698B678D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46EE-9FA6-4E81-BF41-64F65CE7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C3D6963-CF7C-4A70-81D0-525092EC8B5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615D6F8-3FAE-44ED-92EC-FCE26F7393A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3F1C0F2-3567-457E-89D5-9156CED3AE2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1CE74F1-A66A-48BE-8A6B-B3111538C15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6FF6C49-B9AC-40A8-87C9-565C27226E6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167B84-2C86-408E-91C3-42215C6945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0387E69-7B38-42C9-A972-7C8FB448061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9CA85D4-33A6-40B9-95B9-372D975DE5C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EEB409E-E79E-4F5F-B499-79A7F7DA8AF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E6E590-8A25-4BF2-9003-EB1C335F798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F825-2429-4832-81FC-027C1409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4A8908-6CAA-4179-A7EF-05EFB7320C9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F2066B-EFAC-4A56-8336-2D6548A09F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3704F21-F4F8-463F-9CE8-F6D492FF8C5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65E865A-A0E4-4404-B612-F1831E9B75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CAADF5B-CB16-4123-A458-B21E37062F1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9875CF8-72C4-4614-8868-A2365E98D7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8CA2898-6CC0-402C-A6AC-D3872A05FCF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B724A17-F2BB-4E69-A0CD-2B26DEE6C72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4AEE6F-AF07-408D-B58E-277724CA0CF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4927FD-BC47-4068-BD40-B0E2DAACAD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1826-12CF-42EB-96BE-3130D53F8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66F6DF2-C62D-4B04-848D-342390AEFA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A516970-8D0A-4D24-850B-3C60C996DE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78EF0D-B893-481E-97FC-9CA1B76C99E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9DF0AA0-3F30-4C4A-BEEB-F8ED453E1D4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DB56C70-9231-46CA-BD63-F3D77706345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8B24140-D0EF-4835-8BA0-97C210A29A4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AAF8FBA-0014-4ACF-AEFF-B22AB2267C8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6CF05F8-FFF0-424B-A122-4D9D0DD079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4F4B67E-BF5F-4BF8-8622-EADC48D1B7C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156619A-5BD3-479A-A44F-A5A4FD85BDF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0EE9-8762-4CF4-8104-426A97F9B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50CFC22-7044-4429-9F87-D1D6BC37B64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63EB8B-55AF-4336-BDEF-97CFB5D3639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159F2D1-F7ED-473A-8A62-FD3BC8C6414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628136-8D8D-47A3-9B7D-70FD986D3B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7BEC061-438F-4C79-AA96-35AD6B0F4CE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30D3C0-CEFF-4465-AD2C-93DE44B9940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CAFF670-241D-4213-9FC0-6C007235E28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ACF5439-6CEC-46EE-BA77-0EFA7AB04DE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ABCBF8E-B134-4AFB-BDD5-D1B3AC76EE3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2F0E200-B596-4862-BE60-85105FF2C6C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27981-F714-4E96-9A73-4E92B291D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9C16751-AAB1-4794-A9ED-18CD95FAD74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DAC8F9B-9719-4ECA-96DF-C95125AF351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985BF70-F462-452C-9002-E28FE3EAAA9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40D0B5C-D052-4E69-899E-D5DA0860F1E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4299CA0-6071-4A6C-BB6E-B57073F9D7A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470591-6855-499B-828D-9858CB9FF5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894CDD-5D66-441E-8AF8-6F455B714D6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3D6AE39-7C4C-4B0A-9DB4-A8E0CACA3F7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BCF611D-C00A-4F9D-A20F-C9DC0BC6071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FF94DA2-C815-455A-A6F2-3CFF27CFF07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02B65-86A3-482F-A904-9E80583C1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190DEEB-7B05-4A62-A46D-D7AB6E9171F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F9E723D-7B9B-4B54-8FD3-60EC8ADEA15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96F9EF2-8D9E-4C76-BB28-CA8BC13AE4E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D13C7CC-DAB5-4901-BEC4-F6EFA2501BB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D66CCE6-31C8-4970-AB4B-91E1E416AEE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56A8A5D-9314-4AFC-9CAA-5F65F5C9814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A4ED399-ED1D-4F99-B1D7-7241AE6172D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AA170CD-EF11-4C9A-81BD-79C623F1624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AF61A72-3E9E-487A-B272-F7237910FBB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C31675-D8DC-4E2B-9778-EFD5F0AFFB9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C94FF-16FA-43BA-A4E9-24561CD32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4F1D0F6-E007-4ED3-B099-2A7107C5CCE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094ABC5-ADF1-4CCF-966A-105D77CAA6B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5E9A516-D8FE-45AD-8872-874C755C766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A9D43FA-8100-4C40-9CD3-98BADAA725A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1C4EE44-1DED-46F2-864D-5CBD2C38930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64B88F-9E1E-4E17-8B25-EEA39000899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7B1F72B-DE42-47A3-8E50-542604ED71C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4789A88-8C90-45E8-B1E1-6DC9EF37A2B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0495138-08C7-4A7B-865B-FD5C7388355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69BD90D-F9DA-44D0-AC62-9DD7E464D7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E2927-FAA6-4AC6-93A2-001271B1A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BA2052-A3A1-44D2-8B4F-EB0057A8AD1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3864DB-7B8F-44EC-84B5-8B980A920C1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B9366BC-579D-4360-B44F-C47B5D0D640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73737F7-BEC4-48EE-8132-8BE4614937D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8B89295-9D32-4110-B975-D7784EA5368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440EB9E-F87F-4937-B3A7-69834342113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1E01888-2D0C-4769-8317-E2F41A4BF43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0217C10-1A13-4723-8C7D-60F899DE23A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820CAA4-E692-4895-B21F-AB4B78B7EBD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2DF0FFA-43F5-4431-9BC1-7B43FFD1CA9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1926A-E085-4174-95D8-7BAADF6B4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C9424A9-29AB-4DC4-97E6-EE44BEADDEE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91C6580-49AB-4840-BC2C-8E6ECB36EF2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23ACA5C-870B-4DB4-8574-96E6A43AF1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5C54D3-BE06-4A86-9C8E-5673A9EBD4A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25DE58B-5D62-4B10-B191-352FEA80C1A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7BC30E1-B134-46E6-B3AC-F8B7A6C988C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5C4F7D5-0AA6-42F4-B097-871F2B06AE8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C5CE403-FC17-4DF2-8D73-EBCA1371A44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E6EE480-F37D-4B7F-9E9E-0FE75C5E8CF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30D7550-33F7-42A5-8A5B-9C4810EAF02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B3866-58D4-43CC-90EB-F99E2C6D1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808593C-4AB1-4D23-9982-93D4089DA51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6DBC665-AD11-427D-9F0B-D17D807EACA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56BF09B-6815-4467-B7E0-AF0667D6253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682FB15-00B5-4073-88EB-6274E0219C4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194FC9-5A13-4AE4-BF4D-99397499F4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5C3BE9-B874-437D-B78D-4F18B96794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87A8B8E-C7A6-4EE7-9817-47453F108F9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96C1E81-1B8C-485E-ABCD-28782F60FEF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B2D6261-D25C-4811-A708-0140E524442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3A0BDD6-91FC-4530-9B71-AFDBADE2EC8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C23D5-F523-4828-B8C4-F56F0FDAE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6DC6841-8A1F-4443-B58B-1EC9F516173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923CBD0-5084-47C0-A5FA-0046CA1287D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6F37198-704D-4036-AF1C-653A3C0BEE8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DDF8A8F-8DD1-4FD6-8D6D-CAD5B7F7809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CE02EC2-374B-4EF1-A0E8-92BF7F8136D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10472F2-818E-4C45-96E8-13AA2708A09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F9E484C-FC7C-433B-A485-026E35D7A9E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122C984-25AE-4860-8CD8-399A002FC21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2257F05-EC8F-46BB-903A-21D2BBA91C8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21C0B39-0C4B-4542-88E2-28BAA4DE12E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39A62-FB18-4B03-92D6-5D261F1C3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272E450-38A2-468B-B9A9-ED354236FE5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6D72616-F76D-4177-8E86-526886F2124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42D72C1-4A31-4A5B-A855-3D76DBB2518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4781672-28AC-4A0F-8791-57E9E224FCD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B786E96-128A-4308-802E-103A7630FF8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F9EA3C0-F14D-442D-8EBF-4840C063635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5FC96CB-52AC-414B-A9C1-88417B8F707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CD58137-52DE-4642-ABCA-7E40800BA5C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18E9564-588F-4464-AE53-6A841253EF8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024B533-5109-4642-8523-BB06068CD17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8654-F258-4847-8C06-F7252FC9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8937147-FBA7-4782-8F15-9B4932C2588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8BB1384-E00D-4799-9E48-5346AC92854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C6910C8-7CE9-4DB0-AC22-32FFFF00579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D42F5C5-003D-4324-A31D-0F7467504FB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7715BD0-F88D-4286-BE97-B235D5B2B2A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9013795-F39C-4EFB-AEC2-67D243BADCC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3CA1DAE-01C5-4DE5-AB75-E99625E26B5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C60C533-2564-4DC6-8460-98DC0FB8C42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808214D-FFA5-43D1-B56B-0A1655FD4C2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24FBC22-8356-44C6-8E48-EFE1BCC22F6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40A0-4DA1-4FBD-804C-0E77AC31E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215AE18-F6A0-40C6-A41B-8DF41349FF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72099C2-D47E-40EF-8750-FA7DBD697E0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BF44966-736F-46C7-B5DB-59D17B8D94D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CCAEB45-CC10-4388-816F-EDD33E34F80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F538974-9E4F-4416-99D9-A94F89E4CFF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96448B1-169F-4263-83F1-D15A4C4A77F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0D45024-3A1E-4B7E-ACF6-A06EB164792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A7C0EA5-BE51-4CED-9BA2-FC729CF56EC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9EC23E2-E89E-4FB2-AFBE-919C083EBBA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9EEEBD7-2C5D-48B7-B8FC-EFF4A44B5E7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F43B-CBD5-4743-8691-C5A5FA1FE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079B0A3-C4A8-44A3-B02D-289A6582D0B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B7DD183-6692-464A-ABF8-7C5B8C4BE38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4FF5C2B-C21B-4377-876E-DCA9640920D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183EEA6-600F-44B7-A649-17923AFF5D9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3DC7E83-8298-4330-9D4B-816758901A4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AE54D75-C905-47D0-B454-55AEF110F7E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93B44D6-A63A-40BC-89F6-506FC7F133E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02A8C91-AE33-4929-AF4F-3773FF93A53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4C32E91-85F2-4F5E-9E45-AFE8BFC46E5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99E7BFF-C80E-4E0A-B6B1-DFF12E8F8D0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3A391-C498-4E8C-ABB4-0F54FE7F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000E4A8-0652-4117-9271-A6B102030A0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E87CE46-F50C-41F8-90B8-BA212E59E26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21713F6-6247-40D0-80A6-91BC2EA56B8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7F5A448-944C-4F3C-A118-3CFA7177FA6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40AC94D-1957-4559-AAA3-50E059C277E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2D3DC38-0B63-42CB-AEC6-7B23B090ED7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0DDE0AA-8375-4003-818F-DB580F9AA2C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E078077-D34B-41FD-80E8-634F3F0D5CF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0D6D9C9-20CF-4A92-8945-CABA9E5117D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25F0664-1126-4BF5-9735-D7EBB9A8C73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F97AC-B71E-4E52-9416-0E339F4D1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4749839-3884-4FAC-A7F5-D32892D9F1E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2F5636D-7273-4812-87F9-2ECF0F87DA5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CC00BF1-18AC-4B77-A239-FC6FE16AB4B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9C08300-7F18-48AB-B594-6D9654ACC65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B8C1FDB-0727-414F-9A91-F8CD5D2ADBC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A22116E-89EC-453F-8050-1F0FE34F81D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5BFC44A-D63B-41BB-98C3-A5D4E74790A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CDDFDDA-12C2-48FD-B8EF-F00B8B3FABD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D4A1914-F128-440C-B63E-B7F4292AEF7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437895C-77A7-477A-B877-2D26C2B7B0E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F8C7A-4CA7-4000-946E-8D5EEB1E4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DA066C5-D4D1-4B01-8A12-ED7CF05767E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F9CDA46B-399F-4ED6-B01A-A2A6CE667E4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E9FDD9F-8543-4A33-AA2D-5F295B17108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234C7F0-21A3-44DA-B813-83E5AA5AEFE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42A9AEA-DE32-4628-AA86-727EB6CB04E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9FDF753-20BB-4ED1-8A4F-729F96EA5CF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280B241-3008-4135-A7B7-1D638D71C15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5DDE181-6925-4C99-B01C-6BA8AEA4256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962421F-2BD4-47DB-9157-F81B184CC29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25245D5-FC6E-44BC-B5AC-02FC95715BE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755BC2-3955-4137-B370-A5805624C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CAFDFBD-7B5E-4147-8934-DAA005B34FF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A6E6779-7A36-4E1D-A5C0-8EBABC9D8FE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67981C6-46F5-4525-BFBF-04039A5841F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A101492-5BB9-4849-9D9C-9A8BB0B7B53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F07A00F-0380-45D7-BBF9-80F7CF9B17F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98A4FD6-1DD9-4F66-9B68-6AB0CD76827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6795875-A72E-4935-8566-43FD3910875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24D967E-4A78-4E04-8881-286495165D0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07822DA-1A11-45E5-84EE-94142D6C08A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9D2AFED-518F-4013-81D9-B01994AB2DB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EEFE9-9E64-459E-97D4-51AD7FB5A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40FB197-CC64-4C3C-8895-6DE64572226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B9F9D1B-2D36-4EFB-A948-21CE910DB01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D2F2B18-2132-4E41-A2B0-DE94E47379A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82DC8313-5678-4B3C-98A2-6151CACD3C0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CBBF676-9546-43E2-9524-C3E360196AD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89294CD-69C1-4E40-9E53-55710F02BCE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93CB818-23AF-45B8-B0D0-EE27F1CF0EF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4955995-745A-4D9E-B8F7-49285C1CCC1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064B131-ECD0-4319-8FE0-8B01993E07C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3A8BAE6-9EBE-4B40-BA7C-42356A807DE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CE7FE-6FCF-4C3C-922B-05566A9B1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5091CB3-CC7A-4755-B93E-134696E28E3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9D3AA08-AF94-43B0-87B9-953EAB0BD95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FB6D093-222A-4738-B628-67490A16F9C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A537C49-40F2-4948-80C5-FA950D1C744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233C212-B177-4D5B-98FF-84AD6D88349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6C824D1-2CDA-46F3-BCAA-83A50BF5FCE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32AB53A-34EF-4DCF-A3DB-177600CDF19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77A492A-34B9-4E0F-95F5-1D43CD8FDA1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A526DBA-8C57-488F-992F-8C9ABAE3A37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1BF9BFE-F706-447F-8344-B0D18500CF3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0C85B-A2E6-4C85-A804-A89E7A739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08339D1-1574-48DC-8B97-764108EED86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50F0ED7-C617-41BD-A71C-A46D6F069AE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F28DF38-DA3D-4240-817F-2DD2866DFCE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4B72A86-E14F-48BE-A217-DA93F19766A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9C742D3-32EA-4852-A8EC-0D0634F205C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94BDBFD-941B-44FC-98A0-9EE4278E812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0E08EA1-D5A9-4A6B-99DC-25F5CA62AD8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F3CA490-2C21-41A4-9C58-1ED62D8B98A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DD15544-A3D5-49F5-8412-F9D079FBAFC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C77F875-26C8-4CE5-B384-47AFE6758881}"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E3870-0FBC-4477-9117-8477ADA64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23668B1-04B9-4BB5-A8F2-F28ADCF1D34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903E9F0-3382-4A1C-8E4D-B873C67AC6B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198416A-89BF-4AFC-9B92-48BAB288965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430F349-A6A0-4936-96D2-419A32AC63D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B0E70FA-5EC0-41EF-9E7B-B4C0F29A665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C85342E-876A-49A5-84E9-DD573DF00A2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260FAC0-D9D6-49B1-B0E2-B6AE165C46F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9D5197E-5CA1-48A7-863D-11AD594F5C3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A6BFDFC-7746-47D2-93C0-4F113B3B789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45B268D-4C9A-4F90-A6F4-C862499FA21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D8F6C-FE01-456D-84FE-58AD71C90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7841A47-4B96-45BA-A700-7A8CF0DCFDB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6391B4EA-5787-4D8A-A249-8D19F2A5C1BC}"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21EF988-66A4-46B8-BF70-1ADD3F0C570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1777560-2E94-4EF1-9BCE-6AC0710AD56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0375E1B-E639-4F06-946E-24F3D47475E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998603A-C9BB-46AA-B12E-27CDE6F2FDE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E76555B-0C92-468F-AB17-51A51D672E6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1FF27DB-1D28-495A-914F-AC85984FCB1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75E6C0E-7965-4AB6-9026-EA6CB1CA605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929977A-E51E-457F-A546-58000676342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09395-9BE3-4BE0-BD2C-429FF3E9E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C800465-2CCE-4FE1-A3FA-52E88A3380F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A01281D-4750-4F70-9444-9114BF7BBFE8}"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794D56E-3DBB-4605-9520-36165288533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D11C0CA-8C1B-4522-A324-C38ABD8222D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C44A429-0ED7-4BAF-8A81-9BB490C3EED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D61B93F-579D-4DAA-859F-F14C81CED58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134F03B-E721-440C-A964-C95334433B8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7C67BE7-330B-47CD-B87C-AE2E8188DEE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B011FEB-66C8-4608-AAB6-B92DDA02AE4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09DFF36-880F-4D99-ABA4-092F4E41C54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E5E0D-A72C-44E6-86AD-88D02C4B2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E7BF554-9F0C-49DB-A6DD-3954210F27E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5B995EA-AED3-407D-B467-33E9E6DA9EB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3516DBC-4AE5-4174-BDEF-F45A84E2EEB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12533B6-E2A2-436B-8D19-A0FA39D4C5A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13EA552-C209-4193-AFE0-959A283CD50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37915BE-F245-436D-891C-70E34C53B03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50CCF71-872B-4A07-8DFA-AC237EC767C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B7F940D-407F-42C3-AF92-E2A6925888F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0CB5D22-2002-43CA-9B5C-79329568C4C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E78B644-1B26-48CA-AB71-BF3B1AB4B0B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E52CE-DC82-4BA3-B6F7-965A67F86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444E0E3-BF31-4FA2-A83F-0E5A28CBEAD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5808A8D-97D8-4B8C-B03B-09C63808D99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D67A087-4886-4C2E-AA5E-75E371612B6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9AED4ED-B941-40BB-8B39-8A1EDAC4C15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F281A16-6656-4E1A-86FA-8624A6B6091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962C86E-C37A-4A7E-8432-E81ECCD8CCE2}"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71E9A26-795B-430D-A8B0-CFC9EF90DC7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7085E23-92E4-4B71-BB10-65B49C6AD50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B66480C-35AF-4C1D-8612-4DA974F0A9A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AB441F2-EB56-4613-93E4-CE658F9F628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96DD94-0B1E-4FF2-9A6E-B4B2761F8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774E756-462A-4446-94D7-7F4FDF6247A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F13EF0C-C509-43E9-935F-CC6F507AFC5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BC910DB-42BD-4FFA-BD80-4DB47FF3EE7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FA9FBED-0DF7-4F39-9B5E-86FC14FF493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2BC4D6E-43E0-445E-9EDB-FDB6E528A98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14D6B34-39DC-48B2-9361-B805F2B6569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D47A5D4-80C4-4D8A-9303-09837289396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8198FE58-FFC9-4A7F-B145-6733953006D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5FA2AC7-88FD-4F7C-8402-9AB5267DA1D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C1E0AE4-EE21-41D3-A4DD-64FEC8ABACF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BE2A3A-ABF9-4B12-BBA5-8223421EFF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12A248B-EF7F-4642-A54E-8E7E5711FB0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3EDC0B7-A37C-424D-AA7D-35C94E261DB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0D875CD-AF61-470B-9798-97F517098A6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C6971B9-C48A-4EC2-B0EA-84ECE6C96F2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8B1BBE7-C978-41E0-9495-58B946BE3EE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E69CDF4-5CFB-49C0-B3DA-E0D7DC1681C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8160013-3980-4364-8189-B48C71093BB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A89DEBF-6914-4E01-9DD4-82F21A0BA60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E229845-FB6E-413A-AEA6-5740E7F970B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EA9C670-09A5-453D-9D1C-D9DA65665F0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900ED-50DD-4F2D-B9E3-BE37BF837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16A867F-D048-436C-B9F5-656FE122F3C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306B4C8-947B-419B-9094-3EDF34C6D20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144AD63-F021-45E0-BA71-D0C912A0F47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32FCD99-BFB2-46F9-94B1-85CE5B38F58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DD8C51F-6BDE-4ABD-91FF-F51685DA0AB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264819D-61E0-4D1D-AAD5-7528048665D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E09B39C9-942C-414E-BAC6-B7194FCB368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E0AF6B7-EE65-4A2F-83AE-77E19FA710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3CA648E-3568-42C2-9D9A-B5B3CD0279B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A278958-660A-49F2-8652-6214D441571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5A356-1DDF-4FFE-9391-B42A919AE8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C951455-1280-48B2-86D4-413E14D3AC2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B412D17-1B9C-46FA-95F0-ED76CDC1305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61D703C-D1C1-4680-888B-8AF19F8EFBB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1059C380-007B-4AE4-9D38-6F8AE819992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86D7D40-CED9-4AD6-BBB3-D7010B677B4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0946D46E-62D0-40DE-89BB-741DE0053F57}"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45FB477-F80E-4CB4-B7E8-6A51339D4381}"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3BF5251-67E0-4B13-B7ED-A5B1C652341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C2DB310-8C1A-4D98-A1DF-CE9564B34DA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50FAEA1-A61D-44E4-8413-38872EBA923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8AB45-3361-41FA-B31B-C4CB4E00D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CFA5422-F1B8-40F0-926D-4AF502FE91E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8C6A402-452A-4190-B719-C6A43AB3EAA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1909C90C-52BC-492A-B7CD-70EA0E3F42A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CD41A5F2-7BAB-4234-893D-67C0BDE54496}"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1EC32BCB-5D8F-4573-8E98-37168F693914}"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A52A7C11-E105-45AB-B5AB-A4BBB71BF6AA}"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4CA6AA3-110E-4934-B432-FD7468612A2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4A7D9452-D783-4B77-8636-90C53CDCFEC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61AB6E8-B528-4466-8EF7-AB291FF2FB9A}"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CB2684D-C9E1-43AC-BDD9-AE06F566B140}"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168FE-8086-4026-A317-4BA450F53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9C5798F9-3D02-40F9-A610-1B52BF9FA12D}"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6678DC6-EE56-4A6B-87EA-4813F5E0D1B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2B905A0-1F20-4378-8D58-F3AF67986EE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A8222BB-3977-46A2-A417-5AEBD9944AF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EB7C8AD-F4AA-4E98-8FF8-A12BE209C61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8F6D7F22-8132-486F-A020-E01C7A5A47A9}"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7F2D5868-B68D-4C2A-A243-33AB671EBF51}"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1FE45BC2-EFA4-4A5F-8435-0F3FE025532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B311D12C-94EA-4253-BCE9-531C8975FFC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A83356A-09DA-44F8-85B9-6E2666503FC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8FE6E-3059-47E9-AA5D-AEC20298C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C7F552A-EED6-4163-851D-6F605315CE3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C3FCFA7-E312-4E85-9D6B-43D061F113C8}"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CE59657-CC18-4B53-9AC7-03EB32FD6B4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95D5709-207C-4D58-97CA-F23F39963C4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AA6A969-003A-4799-A8D8-66FA3E5229C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75EF161-3C31-4D77-9C2A-56BDFEA850E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81BC88A-5537-452F-A2F6-E1A0A09210C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4FC97391-7F49-42CA-B092-A52F32C7D718}"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6F271146-CB2B-42A2-AC65-F9C4DB7C562C}"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BFBFE26-788B-443F-9F92-06ED380CDA85}"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A37D0-6F5E-4F56-9368-328B67BC5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F4298AB6-47CD-4396-877A-FC840DC83B0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503565C2-BB18-4B47-ACB6-32A29A5D82E1}"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5F0EC65-F507-46F8-94EE-D9098BA9E07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C692DDC6-0274-4DF8-8F74-8D96811DDAF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2A22545-717A-4EA7-9E2F-E66540E2F76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29009D2-AC9B-46FC-B6A8-F2A981A77EF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1086496-66E6-4D7C-B52E-7467D4BF26A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D6D00B9-E4B4-4BBC-9584-204B9BC837A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78DA59A-7F29-4867-82CE-6189AF83B70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450F4821-A591-4EA9-A04B-6DA0E067BA0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0260D-2A72-46E9-A5FF-87185EF55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BCE296E2-A4E6-49AC-8EAB-15778B49F775}"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B493B101-1C36-47B8-96D6-43226FE506D9}"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5438E73-85E9-492A-8E00-473C9DD8513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493F5E20-9433-4927-8FE7-E9B5DB37491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3EDB7D6-FFB4-4064-9FDA-59B1E1901F1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AD19915-29DA-4F41-90E8-0C7528182B3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13C9CE2-D004-4BE3-9DCC-32B0A67721A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25FA743-D0C6-4221-871D-45627E77A74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8D14887-DF6F-472C-9028-B12BBEFBBCA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30C5984-D872-44EB-B09C-1CE26A3A08C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DACB4-377D-41C8-9CD9-BC59FFE82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50220DE-F36F-42A1-8499-C86534F6E91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12482FA6-BBB3-4DC8-94A4-CF8B114F4997}"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37DAC792-8576-4024-BF05-684F2EA6D84C}"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9403BF24-F153-4676-9B3A-4D0A65F92AB2}"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12FAF0A-02AB-40D7-88B0-51CD6A28058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D812A202-EFFD-4DED-A586-1B8739310AE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992E0D9E-6329-4419-BEBF-84025BDEE106}"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D6BF36AD-8A35-4CEF-BB12-62F12354388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A5E9E1ED-9CF6-403B-9BA8-EEFBCC964AB9}"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109551E-32D8-471B-8ABA-A428CAB681F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E9623-EC4D-4BD7-8D91-B5B347F01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4343317-8E7A-4B88-A2B9-D9668341F37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C7770929-8CA5-41E8-B605-AEB26B74B066}"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530251D-F41C-4A48-8D3B-9E612C87B114}"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94F065B0-94AF-4708-BE67-CA5F560972AB}"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61102B48-2730-496D-83DA-67DA005D060A}"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F7705839-4010-4724-8F7A-80851641C49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B9314DD-E8BE-4CA8-9BE4-9F1C63223D5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C2AD0F76-E061-47A2-9FA2-6F27A1BA836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214C7A8-C170-4195-8F92-DBF95905E84B}"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D7FA91F4-51E9-4A4A-AFFC-812BE53E499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5DEFA-4A04-4E15-B677-3D1F5FDF4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D4BD26C-D45C-4D63-B34D-59AAF10D174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A3369D49-7D3D-4A67-B369-B84A71FB4E2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F60A50D-17D0-434A-A67A-7819E52B030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15D34F4-D1AD-47CD-A463-FD04507049F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8FA85D2-90EA-42C2-A9E5-8C070D1D655B}"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E567BD87-7667-4408-B092-924E800D9B86}"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C9F20C9B-ECB4-438F-BBEA-06E1DE39E650}"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85947877-18F9-496A-88FE-7FC2DF40CFD7}"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A8F23AB-E4C8-4BA2-BFC8-E30482132824}"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AD42113-3359-43CC-BB57-353BE1063200}"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21F7E-180D-4BFB-A743-1833BC48B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82EF4857-A27D-4082-B839-28EF3500B801}"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04A82F6-308B-4FAF-9836-8912B44FF4E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9B5D538-A825-4705-AD0D-67A4B91AA46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C33EC05-26DA-4E95-A8E8-FA02C4E7946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941AEC9-7780-4DA6-B42E-D40ED71D0C7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06F4EC8-CB10-4E2F-A704-AFA6A52D3F9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FF89F5A8-F39A-4590-A637-BDC458A83175}"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DA18AC8F-EE31-4C93-B4CB-D9A084DCFC8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B79640E3-B7D8-4EED-A196-10B86CD0E665}"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A829A1D9-F57B-406C-86A0-4174CB964C96}"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2B1ED-F95B-48A2-95E4-AD859AFBF7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876AC35C-6445-4DF8-8714-246801E7DDE3}"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312AC775-36D3-404A-AD58-01C57BD61801}"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2A2E07AF-10F5-4A03-AB15-B4AF849EBB1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BCECA78-F9C1-41EB-9F47-1062B214D93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EDF13E2F-EEE1-4CBB-9C27-FD1CB19A8C43}"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408B13A0-AEDF-4D8C-965D-D39CF326A8A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7F09F98-6FC9-4AA5-9DD5-F623DF8263E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4D1C567-AD6B-4A20-8E29-F5E7286C9B8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14CC8399-A7E9-4CED-8EED-267A7CDF699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889BE12C-CEDC-46CF-83A4-C4747EDAF618}"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F554C2-92DB-4643-B155-DE0D02ED6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34EBDAFC-8943-4E75-AD8D-B88EACACB83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0A113D67-C7AA-49EE-9D79-8B3E3CD5C076}"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C97C765-4C56-4DE3-AC29-9CE2CB180C19}"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EC2070D-CD28-4414-822F-845B327DD4BB}"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81CC2A90-0DB9-4ABA-BB54-0C4E9E88B87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15A4A121-03F7-4BAF-932F-EA608A9CC46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FE2EC3E4-06CD-4653-B62D-7219B0E0F1F6}"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34C3425-EA88-45CD-9927-02CB3637079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C6A4948-7AAE-448F-86B0-20B48519484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6E7D3A5-B309-47DF-AF40-29C1C92A47F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72671F-CC08-4177-96F6-36C65C9CAC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76FEF510-DFB9-4873-8693-441B40531C8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E115687-E465-4416-8C46-596C24B96CB5}"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5F7E0A57-2E57-4C0D-A5BA-5325607A506C}"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906924AF-CB10-4367-95A4-A120BCD0DF80}"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46BC0E4E-00E1-4108-8B3D-45C1C3999A5B}"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9EB4075E-B0D4-463A-B939-FF91C31824B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444F983-D1E9-409A-BC9D-8B83B9682FF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BA5EC5CF-49BC-4433-A4EF-94963C9F0E08}"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855E5D00-7704-40A9-800C-AFD79EB18192}"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2024965-5575-4DB1-804F-EB5B6331880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73BE4-4D1C-482E-B414-097F522D6A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946E16ED-E472-4814-85F3-80EDAAFEB126}"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AB6F801-69BE-43D8-B5C2-A38F3B53ADE6}"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3BD5950-DAF3-4600-AC97-A549DAB541D6}"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02B9A883-3032-4C3F-A021-92D19F66BE13}"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B838CC08-EC69-48C9-B2BF-60BCE9DBF998}"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CD1CB20C-6170-4F60-99F3-D759507CF5F0}"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A9965EC-C4D0-4380-8DC8-F6BC6FEBD57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F732F918-8179-4C90-9586-672EF135E7E1}"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84E273B-29DD-4073-B39A-DF430E8B3CE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4DA13D7E-DA0B-44C3-840A-678EA558AFD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CDEA6-9231-4E6E-8012-AE72E19A3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EB4BC2B-D2B6-4579-89BA-52E0914518A4}"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D9B490B-EEA8-42A5-8625-EDCEF875315F}"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3E94D54-89AD-476E-9050-4E69AC9572EB}"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BFD02B1-07E8-4967-991E-050F93B1452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F522B06D-70A9-474F-9FAA-C2CFB9A5519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3ECF6BA3-98FB-4AF7-9D3F-2756461693E0}"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C030EF32-0271-49CA-9B75-4B8CE6893673}"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88BFE0ED-B446-426A-966D-22B9070DCDA3}"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FB71B8B-03CB-454B-85C3-38FE538D4792}"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AE327E23-FB15-42C5-ABFE-E2BE3CEC63B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DB69E-367A-4AD1-8D6D-948FA36EE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0E20093F-5167-42F5-9D74-5E6F034A600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6E3CD9F7-48E7-4AB8-920F-B9EAB2F8987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0DAECE8-6A4E-4A91-BA8C-66D1EAB9A87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726C483-7B6B-4E6E-977F-6E1B76817E9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27D6072B-C466-4059-B2F5-FE08EC3E0D64}"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F2299B94-F565-4630-B51F-1111337AC784}"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B00FA44-2FCB-43A8-84F8-234336A3ACD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97A19D47-E08C-4944-BDD9-7C25E7DEDFCB}"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3131DF70-7CD3-4449-A17A-8A569191D731}"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27B3510D-4979-482F-AE1C-5370003E3656}"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4AD0C-047D-40C1-B29B-AB2991733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0A1C67C-B6E4-4BF9-8449-85F92879EE95}"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5AE6F18F-1A27-41D0-B74D-BE29FA29E54A}"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95416E5-CB17-4BD2-AAFC-E539BFAF4FA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FC2985EA-F35C-4003-ACCF-11900F6F9A89}"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ED149F76-1F5F-4197-9198-E7942AF824C1}"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C973F35-0922-4E75-A7B7-26337C37B7B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B6105B3C-A16F-475A-9D24-B3C1567F2D6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0374BD8-11A4-4689-8DC3-DD3C0CED2F78}"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DC2F8F85-4A25-4097-AAE8-0209754C2F7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BBF6ECF-33D3-42B7-B03E-2F00358AF4F6}"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491F0-A3EE-4F80-AC7E-606B72324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9EC104D3-B7F0-4F1C-9B9F-4C463B7B4F23}"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F04EFFAE-40CB-4CAE-8EF7-AD34F377CEB3}"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85D1E9D-8B30-4829-85B9-84B120379B2E}"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C47983B-6E2D-44C6-9038-3E1038D74F10}"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7E5C43CB-8AFA-4062-BCE2-7304A65F916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A1AB623-90E8-449A-BFE8-93CD00C82450}"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E0BA0C27-FCC7-410F-8DE7-B17E198EFE4D}"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5748F2E-F331-4ADB-A7ED-FEC8E3588AE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D0E0B2CB-EABB-4FE6-9301-12D894CF9813}"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29BEF3E-904D-46CF-887A-4A395DC1380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967B1-DF5C-46D8-887C-7D96E7649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24D442C3-97D5-47CA-8FD0-D04CF8013471}"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0E0437E8-8822-4E9D-835E-FA21C0A84CBE}"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F91D319E-EFB2-41DE-AFAA-2FCC92656873}"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E71B7328-EB6E-40FD-8521-48B4041C0959}"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1EDA7609-D760-4273-AE5D-B2B2DEED404C}"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55EF0702-3E5F-4531-AB85-9B489E42415A}"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230866BD-7A5C-4ACB-9F9D-A0FDB71EBE13}"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BE14710D-1BD3-4310-B496-4FD666994852}"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09E7FBF1-CE12-4E18-949A-6E2DB0F265A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C685366-2B7D-46FB-BAF1-6DBEC6BD0D1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3F887-7B3D-420D-9AC4-7C13CE8CC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2F3A783-EBAE-4F27-A56E-B6CBA247751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F047309-AF9B-4933-8092-0B7B7ABF7DB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D90937DA-ABD8-428C-B0E7-7983D29D9B7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B5A3390F-3ADF-440E-BEA2-2ED19C573EB6}"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BC33E397-10AE-413F-BEDA-718EA83F6760}"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56551EC0-4A2A-4321-BFEF-1D4A2C2A2B20}"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3E8EA4F5-57D8-454A-B991-E1BEBCA7F5E7}"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DCD31B21-49C4-4B61-BB74-4F7CCD02FA9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4298593D-FB6D-4FAE-8EFE-4C861BAC3994}"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9AEF230-7AA3-4478-BBDB-265AE30DCB8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09180-4FDE-40D2-9BC3-C91B26956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5CD15A5-3662-4CBC-BB8F-595ED347C5FD}"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54E4F01-AB4E-463D-A151-934D797997EF}"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0343019-B006-451A-8932-79A570F587E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5CCE5F8-2F0B-48D4-B0CF-52CC27340AF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FA5973E-665E-44D3-9AF3-A977830295E6}"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673DA971-8100-483A-A55F-A03A4BBD4057}"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D5665BDB-4848-4059-BEA1-E86ECC0FCED0}"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B881A4AC-F082-4634-A572-2BD36192284A}"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EF9AA3FD-4F3E-4226-9A55-DB3732D41E0C}"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A49428F-1507-4D4B-AFC3-A988AA7E300E}"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3E422-486B-4DAA-BE2D-FF699AEB2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1B6884F2-D475-4968-A925-B349294102FF}"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321C68F4-A13D-4181-B7D4-E677429CF2AE}"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4181F838-F157-40DD-B92A-BAF05D8605F9}"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3A0FE31-33D7-46BD-867C-5D139CBF5293}"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891E0DF-58A6-4034-B1AC-0764161F08F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A179700E-16EA-4198-96A8-567A762B237B}"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81795EBB-D2E4-4FC2-9F3F-FE4A902FA7D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D78E8B93-4A3E-4178-92B6-742D5782934B}"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FC7EDC8E-DE8B-45C7-9CE1-4A66B5109766}"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B0DB4269-7019-4CCE-8B57-C2CE3E1F3205}"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6AE58B-D74B-4E2E-BC1F-8FAE849A9A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AE8ADC89-354C-49C3-9888-81B3ED5480A7}"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9253C327-CA01-43C5-A962-ACDE93A17A2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DAC27D6-C392-4479-BD43-0F104E63BE7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0882E9CF-9412-4D02-BD9B-948A181A7E47}"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308A556F-38C3-440F-BB35-8EE18D6CFD81}"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D1486F5-AEF9-40DB-9E5F-F1E0AD22C78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1DCCA82E-8172-481C-80FA-120BE7E4FE2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DECF954-4F93-4C62-9E67-9F204DEDA91C}"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B8A25BEA-AD41-48EA-804B-10F80FDC390D}"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5DD978B0-B81C-4429-8760-43614867B403}"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2F6F9-DB72-49E6-9A13-71F6818D71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9AEE3CB6-9FAF-4E3D-97B5-360A8375607C}"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5D18D36C-B462-45DE-A01B-D5E5E544A628}"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8DE7017C-0CAA-4F19-A8C3-35E6668695CB}"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C6C3E170-01E3-44D1-A828-CFA868CBB1A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336B741-94B4-40D9-8276-6E565CD00EA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D97E0118-44DA-4321-B430-C813E30B7920}"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A22CAFA0-14FB-4BCF-B809-DF1AFD21C0B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F8F8D99-6611-4FF4-99C6-F41B71F877B2}"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631F653-B11F-40F6-B126-C34184F09CC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23165C8-B33D-4BDF-9118-F2EAEEBCAE6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6A8A90-193E-4B48-8226-DCE854672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32A9A661-D824-4A34-B569-A0BEB38240E1}"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8A95E426-DB6A-4110-9CAC-476B5FC7BAC9}"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39DBF3C0-6D28-4310-8A71-8E791F26339B}"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BF2EBF95-C092-46BA-B4C7-61A7B0068A2A}"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28D84F74-313C-41BD-9F3D-E9F03D4437B3}"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82B3F61A-9F21-41DE-AB2F-DB837746471F}"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BF5ECA1-79FF-4B50-A3CC-C5915F6F0B7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F30E55A0-3897-433F-A3F7-8D991BE1A337}"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8F4DE80D-49A0-4033-8C32-BE3700E96A57}"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990857E-377E-4217-B9B4-FA2341B678CD}"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82A6C-8114-416A-82E5-EDF9CB946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AC509F9-BD11-4C87-AF27-86A471DCBC4C}"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17EEEA97-7BD4-46E4-A7C3-1BBECE43160C}"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3C9946F7-CC77-4FDE-B8CB-B0A3B92DCDE9}"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7FFD9055-B94F-48A1-B128-09DC0424EB89}"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EBB54FE1-E488-43BC-A451-99AA27FD8E4F}"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EE5126DD-2253-44CD-AD30-988C8584A906}"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ADEDDBC-4203-4590-AE9A-771FF2ABA979}"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EA5FD546-9EBF-470D-89FA-40F1F62CA3A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41932536-8582-49EB-877D-5B0C0D4FEF3D}"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82B3317E-EE9F-4248-8594-CF6F85250A5D}"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D6E2E-A9A4-4C7C-9B21-9DDB33817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5E45256E-48D6-4D13-915F-2E4655D06D07}"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2222ADB7-1B6E-41EA-8008-F55ED14DA4C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EEACA3B1-DE9F-433B-B25B-757E1A8ED095}"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EC8610E-963C-4F2D-BD99-31BE328ED21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959B14C3-2444-46A2-9233-0880436C9237}"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FEC2948C-9568-48FB-A8CF-504726F62AB6}"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8DDC337E-43D5-4B9D-B094-B9E7A574300D}"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894420A2-0B8C-453B-BB45-9208CC9490CD}"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73F977E-20B8-4239-AB22-45DB08C9AAB0}"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978CD3B0-F539-43FA-B072-090E302C5276}"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0B37B-2C26-4E1A-8239-BBBA042CA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4DAB585A-3B30-43B7-9E9C-4ACD544C69C3}"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DC14179A-F8F9-44DE-83DA-BF6779EC56B1}"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9610653D-0C4E-42C2-B6FC-29653B5CD978}"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E448CDD-94DD-4014-A2E4-A02C9E4F5C20}"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4525487-715A-4505-93A2-7CEF5B123A7F}"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9E3D3AB-E537-498A-A553-BB3E0CB1153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09D55044-9EBF-45C2-A716-C835549C347A}"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36114949-58B6-4057-8270-84FAD5A0765C}"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9E92B027-609B-4F6B-8476-EE8089687B64}"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E28E9634-31D4-41B0-8680-3CE18B385C47}"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9A3CF-E0E2-4551-BC13-FB87804A7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518FC069-2CCD-43E8-81BF-C371F7D9651D}"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B2ECD8D4-AD05-4231-B74F-92A22C9051CC}"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F88A20A2-926F-4EEC-8778-65AE34B8A556}"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33B18D4-C3E4-4841-8508-02123C3AFB33}"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2140D0C8-DD2C-4D51-8F36-29ACE5F681AA}"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EBEBB8B0-920E-49C1-B73C-99DE239812B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22B2964B-84B8-4901-984D-B3E1FF8EBC37}"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3C2FFA9C-FE44-4A02-9549-07F92D1E056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B5B38164-0AC6-456E-A36C-344BF3882B51}"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94AAC5A5-2E5F-4A2E-8706-BFBA3045E3A9}"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7F7B2-F82C-4CB2-BF54-5FECF0FB2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58593AD7-2E1A-4E2A-986F-C9180EA249FA}"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78C50555-EC16-4D20-BA60-57DC180443DE}"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FED117F4-9443-4AFF-907F-FCEAE381CC48}"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409B456-1CA3-455C-810B-5916130E14A6}"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A84765D4-D965-4162-8592-616F4675339C}"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B307986-2DF1-412C-8145-B4F43477C918}"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A7E3B6BB-3C90-46C3-8D86-F8EB34C85995}"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A8C26B2D-C79E-4C9B-B789-0257F3ED116E}"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3DE21FB3-6868-4D65-9329-487BB253F9F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93AD85B-7C77-434A-9725-930896EA9D45}"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C168E-1D0E-4815-9E73-1A8B48D7E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851487B9-0AB7-4CA4-9BA3-1834CCE18393}"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52692CA6-F249-4771-8A08-4D030E984DFE}"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5CBBDC17-5AD1-4900-8093-DB3617E1865C}"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515D4AC9-A741-4A48-90A5-73457B064EDF}"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6E96858-EC5A-4E30-BD24-FFCB558C016B}"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DE7933D7-4FD3-438E-A0C5-7DC8C23B4868}"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3F387FE1-D1CF-47CC-B686-D049A7757E9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7FD0B727-78BD-49F6-BBA2-50EEA703F0F0}"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05C58BE-E4F3-462C-9F43-F5B5AFE22EE5}"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4E198C6-654D-411D-B353-F9E46BA362D1}"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D3251-1911-4C10-8855-F557D56FD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8AFDE6CE-5B72-4006-8D74-E0D4EC8A9D67}"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1F08657C-AF22-4115-A955-3C99923D582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E7D5CA2C-528E-49D9-B2A1-7E3A11AFE89E}"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76EC2B61-53F1-4E9F-A9E2-C4773B69B9DA}"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B15FD081-1595-42C1-899F-E89E30F7E78A}"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46D5796D-0753-4525-942A-B30DD7D2A773}"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78DB1E75-89BC-480A-906B-C98B9B43A24E}"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262C9AAD-624E-4D05-83B9-0953B8838C39}"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964D28C6-FC6F-49D6-88F8-3E0EA9DAA0A0}"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2029C0B-787D-4DC3-B41D-B756AEC9DD4C}"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14794-E79F-4823-A309-9EA4383F1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9C1648B-6991-4A38-8D9E-CF15010B9940}"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3A56AA9B-847F-4BB1-BF97-D10045602BB6}"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215505B-A094-448F-94D5-7DFC7D9DDE24}"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0F7DC8B-F8ED-41DD-80BC-9B8F212C3F0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ABE7CF35-C124-458D-8AC4-BB3CD1715FCB}"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53C1ED4F-0688-4110-90B4-926B8A62D7D1}"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94A294A1-0082-4564-9F8D-5B43E0E5B376}"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A1BECE00-AC81-4248-BB97-2023FFC99766}"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7FC420AA-46F6-4827-9A1E-73176D8007AE}"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33D275DE-337B-4F65-8E10-DAE373BB3F06}"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593A1-7C78-45BE-AD59-469525813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D32CAD3A-6E26-4A4F-91E3-3A3D2335AC8D}"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2FA13CB4-6C44-47DD-B274-64639EDE4191}"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C890FB9D-6FBF-4D09-9EA8-FB2C3B007E42}"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DD86E99-C78A-43D3-B4EE-34731261638B}"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C8DD0E0-6EAE-46A0-BFED-E0A3AE9BE6BE}"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57D93F0B-F4D6-4433-A274-05B79A9DCF39}"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208C5136-F043-4819-B94A-208FF2D9634F}"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CBFF9394-C448-41C1-9198-2E8B9B72E307}"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94525A4A-3B5F-4A1C-83B4-ACCDCBBB59AE}"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4C9A18EF-4B08-4A56-8101-FB17E3195B29}"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95E9E0-E00E-4E80-B6E0-96738011AD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830A3FF3-F5CC-445C-9243-CBDE3A92756D}"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AD0C116C-1FF5-42FA-85DE-0680EF6B5A4C}"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31A72AFE-62CA-455D-9808-645112D67D55}"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ADD4CAD3-D509-4D06-8885-2EB839F84C2E}"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A7180DD9-BAFF-47A9-85B2-806B6ABA1AC7}"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AF43586E-EDB2-43EA-9C7F-1674947BCFB4}"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D1BA581B-2A93-4D6F-9639-C5DAD48CA48F}"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B7FB4062-78CB-475E-A3EC-7AA507091E67}"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5975DFB9-811B-46FD-BE1F-B558463F703C}"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DA5583C4-2AD4-421D-9C99-95656367D595}"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AF3C53-DBA5-4ACF-A074-DFEC495544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3C36EB7F-27FF-4308-BD56-FDF2F589DE54}"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BB8B5193-996B-485C-B7E1-D1B52EAC6CB2}"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0B391DE7-9955-4036-9807-681D79D6F23C}"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E3896001-9E66-45CF-876B-97569C29C50F}"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D2DF6483-30B5-4434-A432-6B34C247E88A}"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82BD1ED4-41BC-46B3-8580-FE89E2110F36}"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AD37A2A4-AF32-4C15-9702-093863D78291}"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989DC330-904A-4BCE-A175-E79A173AB2BE}"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821AE5B1-38A3-48E1-AEC9-BBB08A655BFD}"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BC550509-E45C-4BFE-BC65-76B6B0DA5E7C}"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C1D85AB6-6253-4EF2-B539-7F33B4B20C62}"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DFE0D19A-C343-4A37-B628-A8B15BFE7613}"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00B065D1-5766-4B56-9F8D-3CB93079E72B}"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64BB3FF8-3541-4BA1-B7B5-0B1F6E0E8929}"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44AF5946-3DB2-4EA5-973C-94E2CF43B5CF}"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D4DC2E32-40E1-411E-B056-19DD86E27973}"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F96973CB-CBC0-410F-87DA-1077DE3D506E}"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9053C652-9C45-4972-BEE1-1CDFF65006FA}"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C08A7F04-C0BD-443D-91D1-EAAAF4EEA069}"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DA3829AF-E8DE-48B2-B62B-BCEC0F534C61}"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CD3F4568-B067-4EE3-B914-8667335DA7F7}"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69C1F855-5BC5-40BD-9C08-DC44C18D4F9E}"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B3BD3CEF-F2C3-447D-B5C6-945DAB490C5D}"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30A7CCAF-EDFB-4B38-86C5-9C22A360106B}"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B394EE0E-F001-4639-B2DE-CC21AD2BC187}"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2D82FADE-1CC7-40FB-915E-6AB2AF406548}"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036E9DCF-22E1-42E5-B8A6-38259752D628}"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780D709D-5B61-44F7-993C-3580D7BC857B}"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AB6794F6-9F70-43AA-9D00-F4EFA5F56A6A}"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F79B483F-C418-422F-91E5-D4751DEB791E}"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AA1DF3E6-9948-4B15-874A-0F04D008EDC7}"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4D72D53C-90C6-42AB-B786-27A5DCE1E3FD}"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3A619547-8977-41B3-9A28-14CF4DB9233E}"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EA2BFF60-A79D-4F96-8611-C8864388CEAD}"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B04A2362-BF3B-495B-96AE-17BF3B3E133D}"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4396D530-6BFD-4B11-BCDB-08ED69B7C486}"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863F0097-A801-4B9F-A413-C3025FD6EE1B}"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15C41E1E-1FB6-4F7F-BD6E-EC3F63193252}"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F7D2592F-E011-4DB3-89D2-F43BB6301764}"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0302C184-9C3F-43BE-A7FA-B98CF3B4599F}" type="slidenum">
              <a:t>&lt;#&gt;</a:t>
            </a:fld>
          </a:p>
        </p:txBody>
      </p:sp>
      <p:sp>
        <p:nvSpPr>
          <p:cNvPr id="6" name="PlaceHolder 5"/>
          <p:cNvSpPr>
            <a:spLocks noGrp="1"/>
          </p:cNvSpPr>
          <p:nvPr>
            <p:ph type="dt" idx="24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C94A-3FFA-4565-A6BA-CE2671369D2D}"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E14F1-2854-44F2-83FC-4C26B0E22E5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2B1CB-7606-4F0F-B4BA-8A69CF02D8B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FB2D7-0FD2-4021-A905-5F67AE5BDEB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C375A-FAC6-4402-A259-85E4403A735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1B55B-9E8D-4EB5-94CC-71199B8BA29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CAE67-EBA9-4452-B30C-F50499BF14A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5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5351D-655B-4118-B16F-6A957F88472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9"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0"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91"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533A1-F68D-41A2-98AD-ABB6DE88818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3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6BD4C-710A-4D91-8F46-DB81AB0944A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7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51C68-A158-4EEE-B456-9CF82434F8C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1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58A56-DA98-41EC-AB11-6873E0E9C59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5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9C177-A08A-4691-85E6-70A1C598691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1A9B2-EB1A-4EC5-9156-05E19AF6FB4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C08B0-CCD0-4618-A5BF-71783287E3B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59642-3E34-423F-A35A-96F77AC9381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F1565-C9FC-4C3B-A003-213DCF3C220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13FE9-E1E3-479E-80AA-CD9C6A99C1B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0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8422F-7D83-4883-A531-2B0BD878EF4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4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4ED13-C74B-4521-BBF4-A36E5139902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Verdana"/>
                <a:ea typeface="MS PGothic"/>
              </a:rPr>
              <a:t>Professor Robert Cooter</a:t>
            </a:r>
            <a:endParaRPr b="0" lang="en-US" sz="2400" spc="-1" strike="noStrike">
              <a:solidFill>
                <a:srgbClr val="000000"/>
              </a:solidFill>
              <a:latin typeface="Times New Roman"/>
            </a:endParaRPr>
          </a:p>
        </p:txBody>
      </p:sp>
      <p:sp>
        <p:nvSpPr>
          <p:cNvPr id="7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47BF-B1ED-4C8F-958A-0461CC14F9FB}" type="slidenum">
              <a:rPr b="0" lang="en-US" sz="2400" spc="-1" strike="noStrike">
                <a:solidFill>
                  <a:srgbClr val="898989"/>
                </a:solidFill>
                <a:latin typeface="Verdana"/>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8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783B6-533D-4BE0-9022-1A3F6DBC15E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2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54DCA-8FE5-4963-8615-4A896145964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6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4AFD7-A008-4637-B18B-B25B57F1043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0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C2A36-143E-46BB-BE36-D8C1313A2C7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4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01EC9-560C-4C13-A319-5EF26E0002A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8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8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69B36-0743-4284-9095-A56B46D652D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BE761-0520-463C-8F41-5C3F7171DD4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6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F457C-AEDD-4297-9D5C-A364E31E024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1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7BEFC-2024-4B47-B284-7CF99CEEE52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5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BC6D0-0D70-4AB7-A401-51FCEAB6549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ABCF-3855-4A31-87F0-A8D51862ACBD}"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9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33C18-2465-4F62-9AB1-B21161CB6D6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3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C1F28-38DD-403F-9DA1-A24C48B8F11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7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1A1BF-26C1-48DD-ABFF-9A406B1BFE6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1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ECDC6-CD8C-436E-8D30-179BDC55228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5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B3C0F-9F6B-4BFF-B854-F79EFD553D8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9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7682E-4988-4C5C-9224-216EFA83B64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3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35103-FD88-4144-915A-C2C4727EEBC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7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E41EB-40F3-4E36-BAD6-2163B38BF64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2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A2CB1-1FEF-43E0-808A-9A16AAB72F8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6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53986-5206-4E32-86F7-8D224F9D5FE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9E73-0333-45C2-99E0-541783EEBA0F}"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0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80B75-79EA-4ABC-BE3F-F2692DA5914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4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FD0D4-99A1-45D0-B46C-CD3601880D2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84"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5"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3CD2A-8EF1-4F32-BECE-39A85441790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25"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6"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4238B-98EB-43A1-B482-C883D61A05E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66"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7"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8F85A-92DB-474D-B4D1-D1F8F18F261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07"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08"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0A2A0-8E52-4C04-99DC-F521B43AB45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48"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49"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CBA0B-60D7-4F2F-9450-2715086A495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89"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0"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728B8-7A34-4871-9293-F04AC40AF3E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30"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1"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E1028-B102-48C1-B214-3383B5E4708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71"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2"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75DE6-1B17-45D5-A78B-A5ECBF3C3BE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0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0645-B27F-4DD4-B670-59D3F8D3A049}"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12"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3"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016A4-C8C7-4D8E-B9B1-CC3A7A13E36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53"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4"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73756-D88E-40EA-8610-540A4232B2A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94"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5"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6F720-0F48-4C86-B0B1-9EC808F8030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35"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6"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D962F-9E77-4B72-8D83-10A203BB8CC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76"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7"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03350-0EC4-4438-8BDE-884B9725852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17"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18"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24F93-99E2-4D07-9BF6-0792DF1D475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58"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59"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5F59A-1169-4B65-9161-1C1AD41B485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99"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0"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C0DD-CC50-46DE-9084-B4C24F44757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40"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1"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B7666-268B-4EB9-883D-F61455B1CF3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81"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2"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ADAFA-3AA7-4E61-A47A-DDC64FB7B13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4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E308-B59C-48B6-9623-0D9D4527FEB0}"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22"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3"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CD9D8-AECD-48F1-A5DD-EC65AECD057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63"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4"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8E755-789D-4B5B-BC96-244FE8E437D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04" name="PlaceHolder 4"/>
          <p:cNvSpPr>
            <a:spLocks noGrp="1"/>
          </p:cNvSpPr>
          <p:nvPr>
            <p:ph type="ftr" idx="2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5" name="PlaceHolder 5"/>
          <p:cNvSpPr>
            <a:spLocks noGrp="1"/>
          </p:cNvSpPr>
          <p:nvPr>
            <p:ph type="sldNum" idx="20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56CBE-471E-4E26-97C7-5DAC39BE39B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4" name="PlaceHolder 3"/>
          <p:cNvSpPr>
            <a:spLocks noGrp="1"/>
          </p:cNvSpPr>
          <p:nvPr>
            <p:ph type="dt" idx="20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45" name="PlaceHolder 4"/>
          <p:cNvSpPr>
            <a:spLocks noGrp="1"/>
          </p:cNvSpPr>
          <p:nvPr>
            <p:ph type="ftr" idx="2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6" name="PlaceHolder 5"/>
          <p:cNvSpPr>
            <a:spLocks noGrp="1"/>
          </p:cNvSpPr>
          <p:nvPr>
            <p:ph type="sldNum" idx="2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240BB-7193-41E0-8047-BC5C3E1EC95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5" name="PlaceHolder 3"/>
          <p:cNvSpPr>
            <a:spLocks noGrp="1"/>
          </p:cNvSpPr>
          <p:nvPr>
            <p:ph type="dt" idx="2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86" name="PlaceHolder 4"/>
          <p:cNvSpPr>
            <a:spLocks noGrp="1"/>
          </p:cNvSpPr>
          <p:nvPr>
            <p:ph type="ftr" idx="2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7" name="PlaceHolder 5"/>
          <p:cNvSpPr>
            <a:spLocks noGrp="1"/>
          </p:cNvSpPr>
          <p:nvPr>
            <p:ph type="sldNum" idx="2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3807B-1DE8-46B6-880A-2AA396B0972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6" name="PlaceHolder 3"/>
          <p:cNvSpPr>
            <a:spLocks noGrp="1"/>
          </p:cNvSpPr>
          <p:nvPr>
            <p:ph type="dt" idx="2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27" name="PlaceHolder 4"/>
          <p:cNvSpPr>
            <a:spLocks noGrp="1"/>
          </p:cNvSpPr>
          <p:nvPr>
            <p:ph type="ftr" idx="2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28" name="PlaceHolder 5"/>
          <p:cNvSpPr>
            <a:spLocks noGrp="1"/>
          </p:cNvSpPr>
          <p:nvPr>
            <p:ph type="sldNum" idx="2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9B673-EF93-4C85-8C86-6F044E031AC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7" name="PlaceHolder 3"/>
          <p:cNvSpPr>
            <a:spLocks noGrp="1"/>
          </p:cNvSpPr>
          <p:nvPr>
            <p:ph type="dt" idx="2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68" name="PlaceHolder 4"/>
          <p:cNvSpPr>
            <a:spLocks noGrp="1"/>
          </p:cNvSpPr>
          <p:nvPr>
            <p:ph type="ftr" idx="2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69" name="PlaceHolder 5"/>
          <p:cNvSpPr>
            <a:spLocks noGrp="1"/>
          </p:cNvSpPr>
          <p:nvPr>
            <p:ph type="sldNum" idx="2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57C82-55C0-40F2-807C-9C2E76BB629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08" name="PlaceHolder 3"/>
          <p:cNvSpPr>
            <a:spLocks noGrp="1"/>
          </p:cNvSpPr>
          <p:nvPr>
            <p:ph type="dt" idx="22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9" name="PlaceHolder 4"/>
          <p:cNvSpPr>
            <a:spLocks noGrp="1"/>
          </p:cNvSpPr>
          <p:nvPr>
            <p:ph type="ftr" idx="2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0" name="PlaceHolder 5"/>
          <p:cNvSpPr>
            <a:spLocks noGrp="1"/>
          </p:cNvSpPr>
          <p:nvPr>
            <p:ph type="sldNum" idx="2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10590-A2DF-439C-A1CA-81CA53688A3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9" name="PlaceHolder 3"/>
          <p:cNvSpPr>
            <a:spLocks noGrp="1"/>
          </p:cNvSpPr>
          <p:nvPr>
            <p:ph type="dt" idx="2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0" name="PlaceHolder 4"/>
          <p:cNvSpPr>
            <a:spLocks noGrp="1"/>
          </p:cNvSpPr>
          <p:nvPr>
            <p:ph type="ftr" idx="2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1" name="PlaceHolder 5"/>
          <p:cNvSpPr>
            <a:spLocks noGrp="1"/>
          </p:cNvSpPr>
          <p:nvPr>
            <p:ph type="sldNum" idx="2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A4679-AB3D-4A47-BC46-8CE0E14AD14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0" name="PlaceHolder 3"/>
          <p:cNvSpPr>
            <a:spLocks noGrp="1"/>
          </p:cNvSpPr>
          <p:nvPr>
            <p:ph type="dt" idx="2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1" name="PlaceHolder 4"/>
          <p:cNvSpPr>
            <a:spLocks noGrp="1"/>
          </p:cNvSpPr>
          <p:nvPr>
            <p:ph type="ftr" idx="2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2" name="PlaceHolder 5"/>
          <p:cNvSpPr>
            <a:spLocks noGrp="1"/>
          </p:cNvSpPr>
          <p:nvPr>
            <p:ph type="sldNum" idx="22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BDEC1-698F-4444-BFB3-26C82700ABB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8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820E-097C-411F-9E3E-1761F271097A}"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1" name="PlaceHolder 3"/>
          <p:cNvSpPr>
            <a:spLocks noGrp="1"/>
          </p:cNvSpPr>
          <p:nvPr>
            <p:ph type="dt" idx="2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2" name="PlaceHolder 4"/>
          <p:cNvSpPr>
            <a:spLocks noGrp="1"/>
          </p:cNvSpPr>
          <p:nvPr>
            <p:ph type="ftr" idx="2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3" name="PlaceHolder 5"/>
          <p:cNvSpPr>
            <a:spLocks noGrp="1"/>
          </p:cNvSpPr>
          <p:nvPr>
            <p:ph type="sldNum" idx="2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15ACB-714E-475F-A05A-F1CF3299BC9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2" name="PlaceHolder 3"/>
          <p:cNvSpPr>
            <a:spLocks noGrp="1"/>
          </p:cNvSpPr>
          <p:nvPr>
            <p:ph type="dt" idx="23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3" name="PlaceHolder 4"/>
          <p:cNvSpPr>
            <a:spLocks noGrp="1"/>
          </p:cNvSpPr>
          <p:nvPr>
            <p:ph type="ftr" idx="2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4" name="PlaceHolder 5"/>
          <p:cNvSpPr>
            <a:spLocks noGrp="1"/>
          </p:cNvSpPr>
          <p:nvPr>
            <p:ph type="sldNum" idx="2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6AC58-73BD-4317-A62A-8AC583ECE2A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3" name="PlaceHolder 3"/>
          <p:cNvSpPr>
            <a:spLocks noGrp="1"/>
          </p:cNvSpPr>
          <p:nvPr>
            <p:ph type="dt" idx="23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4" name="PlaceHolder 4"/>
          <p:cNvSpPr>
            <a:spLocks noGrp="1"/>
          </p:cNvSpPr>
          <p:nvPr>
            <p:ph type="ftr" idx="2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5" name="PlaceHolder 5"/>
          <p:cNvSpPr>
            <a:spLocks noGrp="1"/>
          </p:cNvSpPr>
          <p:nvPr>
            <p:ph type="sldNum" idx="2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4559D-7D95-4EAE-A48F-A016A3A5204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4" name="PlaceHolder 3"/>
          <p:cNvSpPr>
            <a:spLocks noGrp="1"/>
          </p:cNvSpPr>
          <p:nvPr>
            <p:ph type="dt" idx="23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5" name="PlaceHolder 4"/>
          <p:cNvSpPr>
            <a:spLocks noGrp="1"/>
          </p:cNvSpPr>
          <p:nvPr>
            <p:ph type="ftr" idx="2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6" name="PlaceHolder 5"/>
          <p:cNvSpPr>
            <a:spLocks noGrp="1"/>
          </p:cNvSpPr>
          <p:nvPr>
            <p:ph type="sldNum" idx="2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A4A60-664B-4ACA-8FBF-C7E2C72D698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5" name="PlaceHolder 3"/>
          <p:cNvSpPr>
            <a:spLocks noGrp="1"/>
          </p:cNvSpPr>
          <p:nvPr>
            <p:ph type="dt" idx="24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6" name="PlaceHolder 4"/>
          <p:cNvSpPr>
            <a:spLocks noGrp="1"/>
          </p:cNvSpPr>
          <p:nvPr>
            <p:ph type="ftr" idx="2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7" name="PlaceHolder 5"/>
          <p:cNvSpPr>
            <a:spLocks noGrp="1"/>
          </p:cNvSpPr>
          <p:nvPr>
            <p:ph type="sldNum" idx="2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E761A-C75C-498E-A0D0-0198BA7E2FE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6" name="PlaceHolder 3"/>
          <p:cNvSpPr>
            <a:spLocks noGrp="1"/>
          </p:cNvSpPr>
          <p:nvPr>
            <p:ph type="dt" idx="24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7" name="PlaceHolder 4"/>
          <p:cNvSpPr>
            <a:spLocks noGrp="1"/>
          </p:cNvSpPr>
          <p:nvPr>
            <p:ph type="ftr" idx="2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8" name="PlaceHolder 5"/>
          <p:cNvSpPr>
            <a:spLocks noGrp="1"/>
          </p:cNvSpPr>
          <p:nvPr>
            <p:ph type="sldNum" idx="2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427A7-444B-40B9-A801-89A313ABCE2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7" name="PlaceHolder 3"/>
          <p:cNvSpPr>
            <a:spLocks noGrp="1"/>
          </p:cNvSpPr>
          <p:nvPr>
            <p:ph type="dt" idx="24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8" name="PlaceHolder 4"/>
          <p:cNvSpPr>
            <a:spLocks noGrp="1"/>
          </p:cNvSpPr>
          <p:nvPr>
            <p:ph type="ftr" idx="2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9" name="PlaceHolder 5"/>
          <p:cNvSpPr>
            <a:spLocks noGrp="1"/>
          </p:cNvSpPr>
          <p:nvPr>
            <p:ph type="sldNum" idx="2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1DEF1-3B5E-4BF9-8A8B-7104C8B5BE7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18" name="PlaceHolder 3"/>
          <p:cNvSpPr>
            <a:spLocks noGrp="1"/>
          </p:cNvSpPr>
          <p:nvPr>
            <p:ph type="dt" idx="25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9" name="PlaceHolder 4"/>
          <p:cNvSpPr>
            <a:spLocks noGrp="1"/>
          </p:cNvSpPr>
          <p:nvPr>
            <p:ph type="ftr" idx="2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0" name="PlaceHolder 5"/>
          <p:cNvSpPr>
            <a:spLocks noGrp="1"/>
          </p:cNvSpPr>
          <p:nvPr>
            <p:ph type="sldNum" idx="2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B6947-8243-4D2E-AAAF-5DBDCDA439C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9" name="PlaceHolder 3"/>
          <p:cNvSpPr>
            <a:spLocks noGrp="1"/>
          </p:cNvSpPr>
          <p:nvPr>
            <p:ph type="dt" idx="25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D5304-E21B-4E87-A306-3D169FB10900}" type="datetime">
              <a:rPr b="0" lang="en-US" sz="2400" spc="-1" strike="noStrike">
                <a:solidFill>
                  <a:srgbClr val="898989"/>
                </a:solidFill>
                <a:latin typeface="Times New Roman"/>
              </a:rPr>
              <a:t>07/31/26</a:t>
            </a:fld>
            <a:endParaRPr b="0" lang="en-US" sz="2400" spc="-1" strike="noStrike">
              <a:solidFill>
                <a:srgbClr val="000000"/>
              </a:solidFill>
              <a:latin typeface="Times New Roman"/>
            </a:endParaRPr>
          </a:p>
        </p:txBody>
      </p:sp>
      <p:sp>
        <p:nvSpPr>
          <p:cNvPr id="3560" name="PlaceHolder 4"/>
          <p:cNvSpPr>
            <a:spLocks noGrp="1"/>
          </p:cNvSpPr>
          <p:nvPr>
            <p:ph type="ftr" idx="2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1" name="PlaceHolder 5"/>
          <p:cNvSpPr>
            <a:spLocks noGrp="1"/>
          </p:cNvSpPr>
          <p:nvPr>
            <p:ph type="sldNum" idx="2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49824-EFB3-48F9-980C-329CBB62EDE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buClr>
                <a:srgbClr val="ffffff"/>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9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6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79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9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9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529.xml"/>
</Relationships>
</file>

<file path=ppt/slides/_rels/slide9.xml.rels><?xml version="1.0" encoding="UTF-8"?>
<Relationships xmlns="http://schemas.openxmlformats.org/package/2006/relationships"><Relationship Id="rId1" Type="http://schemas.openxmlformats.org/officeDocument/2006/relationships/hyperlink" Target="http://ies.ed.gov/ncee/wwc/"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PlaceHolder 1"/>
          <p:cNvSpPr>
            <a:spLocks noGrp="1"/>
          </p:cNvSpPr>
          <p:nvPr>
            <p:ph type="title"/>
          </p:nvPr>
        </p:nvSpPr>
        <p:spPr>
          <a:xfrm>
            <a:off x="183960" y="75960"/>
            <a:ext cx="8839080" cy="1068120"/>
          </a:xfrm>
          <a:prstGeom prst="rect">
            <a:avLst/>
          </a:prstGeom>
          <a:solidFill>
            <a:srgbClr val="e6b9b8"/>
          </a:solid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OPED 645 03-12</a:t>
            </a:r>
            <a:br>
              <a:rPr sz="3000"/>
            </a:br>
            <a:r>
              <a:rPr b="0" lang="en-US" sz="3000" spc="-1" strike="noStrike">
                <a:solidFill>
                  <a:srgbClr val="000000"/>
                </a:solidFill>
                <a:latin typeface="Arial"/>
              </a:rPr>
              <a:t>Teacher Leadership Practice in Academic Literacy</a:t>
            </a:r>
            <a:endParaRPr b="0" lang="en-US" sz="3000" spc="-1" strike="noStrike">
              <a:solidFill>
                <a:srgbClr val="000000"/>
              </a:solidFill>
              <a:latin typeface="Arial"/>
            </a:endParaRPr>
          </a:p>
        </p:txBody>
      </p:sp>
      <p:sp>
        <p:nvSpPr>
          <p:cNvPr id="3602" name="Rectangle 8"/>
          <p:cNvSpPr/>
          <p:nvPr/>
        </p:nvSpPr>
        <p:spPr>
          <a:xfrm>
            <a:off x="2781360" y="6199200"/>
            <a:ext cx="3886200" cy="459720"/>
          </a:xfrm>
          <a:prstGeom prst="rect">
            <a:avLst/>
          </a:prstGeom>
          <a:solidFill>
            <a:srgbClr val="e1b4b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t your name here</a:t>
            </a:r>
            <a:endParaRPr b="0" lang="en-US" sz="2400" spc="-1" strike="noStrike">
              <a:solidFill>
                <a:srgbClr val="000000"/>
              </a:solidFill>
              <a:latin typeface="Arial"/>
            </a:endParaRPr>
          </a:p>
        </p:txBody>
      </p:sp>
      <p:sp>
        <p:nvSpPr>
          <p:cNvPr id="3603" name="Rectangle 2"/>
          <p:cNvSpPr/>
          <p:nvPr/>
        </p:nvSpPr>
        <p:spPr>
          <a:xfrm>
            <a:off x="184320" y="3341520"/>
            <a:ext cx="8839080" cy="1068480"/>
          </a:xfrm>
          <a:prstGeom prst="rect">
            <a:avLst/>
          </a:prstGeom>
          <a:solidFill>
            <a:srgbClr val="ffffff"/>
          </a:solidFill>
          <a:ln w="25560">
            <a:solidFill>
              <a:srgbClr val="ffffff"/>
            </a:solidFill>
            <a:miter/>
          </a:ln>
        </p:spPr>
        <p:style>
          <a:lnRef idx="0"/>
          <a:fillRef idx="0"/>
          <a:effectRef idx="0"/>
          <a:fontRef idx="minor"/>
        </p:style>
        <p:txBody>
          <a:bodyPr lIns="50760" rIns="50760" tIns="50760" bIns="5076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535353"/>
                </a:solidFill>
                <a:latin typeface="Arial"/>
              </a:rPr>
              <a:t>JCPS-Bellarmine Literacy Project</a:t>
            </a:r>
            <a:endParaRPr b="0" lang="en-US" sz="3600" spc="-1" strike="noStrike">
              <a:solidFill>
                <a:srgbClr val="000000"/>
              </a:solidFill>
              <a:latin typeface="Arial"/>
            </a:endParaRPr>
          </a:p>
        </p:txBody>
      </p:sp>
      <p:pic>
        <p:nvPicPr>
          <p:cNvPr id="3604" name="Picture 12" descr="jcps logo"/>
          <p:cNvPicPr/>
          <p:nvPr/>
        </p:nvPicPr>
        <p:blipFill>
          <a:blip r:embed="rId1"/>
          <a:stretch/>
        </p:blipFill>
        <p:spPr>
          <a:xfrm>
            <a:off x="289080" y="4546440"/>
            <a:ext cx="2492280" cy="1219320"/>
          </a:xfrm>
          <a:prstGeom prst="rect">
            <a:avLst/>
          </a:prstGeom>
          <a:ln w="0">
            <a:noFill/>
          </a:ln>
        </p:spPr>
      </p:pic>
      <p:pic>
        <p:nvPicPr>
          <p:cNvPr id="3605" name="Picture 13" descr="Bellarmine University Shield"/>
          <p:cNvPicPr/>
          <p:nvPr/>
        </p:nvPicPr>
        <p:blipFill>
          <a:blip r:embed="rId2"/>
          <a:stretch/>
        </p:blipFill>
        <p:spPr>
          <a:xfrm>
            <a:off x="6553080" y="4546440"/>
            <a:ext cx="2351160" cy="1197000"/>
          </a:xfrm>
          <a:prstGeom prst="rect">
            <a:avLst/>
          </a:prstGeom>
          <a:ln w="0">
            <a:noFill/>
          </a:ln>
        </p:spPr>
      </p:pic>
      <p:pic>
        <p:nvPicPr>
          <p:cNvPr id="3606" name="Picture 1" descr=""/>
          <p:cNvPicPr/>
          <p:nvPr/>
        </p:nvPicPr>
        <p:blipFill>
          <a:blip r:embed="rId3"/>
          <a:stretch/>
        </p:blipFill>
        <p:spPr>
          <a:xfrm>
            <a:off x="1936800" y="1390680"/>
            <a:ext cx="5334120" cy="2046240"/>
          </a:xfrm>
          <a:prstGeom prst="rect">
            <a:avLst/>
          </a:prstGeom>
          <a:ln w="0">
            <a:noFill/>
          </a:ln>
        </p:spPr>
      </p:pic>
      <p:pic>
        <p:nvPicPr>
          <p:cNvPr id="3607" name="Picture 6" descr="MPj04070020000[1]"/>
          <p:cNvPicPr/>
          <p:nvPr/>
        </p:nvPicPr>
        <p:blipFill>
          <a:blip r:embed="rId4"/>
          <a:stretch/>
        </p:blipFill>
        <p:spPr>
          <a:xfrm>
            <a:off x="3276720" y="4359240"/>
            <a:ext cx="310176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0" name="Slide Number Placeholder 24"/>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9D73E-8B4E-499F-B768-A2F9CCB43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1" name="Rounded Rectangle 5"/>
          <p:cNvSpPr/>
          <p:nvPr/>
        </p:nvSpPr>
        <p:spPr>
          <a:xfrm>
            <a:off x="228600" y="1676520"/>
            <a:ext cx="312408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2" name="Rounded Rectangle 6"/>
          <p:cNvSpPr/>
          <p:nvPr/>
        </p:nvSpPr>
        <p:spPr>
          <a:xfrm>
            <a:off x="5638680" y="1676520"/>
            <a:ext cx="312444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3" name="Oval 8"/>
          <p:cNvSpPr/>
          <p:nvPr/>
        </p:nvSpPr>
        <p:spPr>
          <a:xfrm>
            <a:off x="0" y="46483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4" name="Oval 9"/>
          <p:cNvSpPr/>
          <p:nvPr/>
        </p:nvSpPr>
        <p:spPr>
          <a:xfrm>
            <a:off x="1752480" y="281952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5" name="Oval 10"/>
          <p:cNvSpPr/>
          <p:nvPr/>
        </p:nvSpPr>
        <p:spPr>
          <a:xfrm>
            <a:off x="3809880" y="457200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6" name="Oval 11"/>
          <p:cNvSpPr/>
          <p:nvPr/>
        </p:nvSpPr>
        <p:spPr>
          <a:xfrm>
            <a:off x="7162920" y="480060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7" name="Oval 12"/>
          <p:cNvSpPr/>
          <p:nvPr/>
        </p:nvSpPr>
        <p:spPr>
          <a:xfrm>
            <a:off x="5791320" y="28195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8" name="Plus 13"/>
          <p:cNvSpPr/>
          <p:nvPr/>
        </p:nvSpPr>
        <p:spPr>
          <a:xfrm>
            <a:off x="3962520" y="1600200"/>
            <a:ext cx="914400" cy="914400"/>
          </a:xfrm>
          <a:custGeom>
            <a:avLst/>
            <a:gdLst/>
            <a:ahLst/>
            <a:rect l="l" t="t" r="r" b="b"/>
            <a:pathLst>
              <a:path w="914400" h="914400">
                <a:moveTo>
                  <a:pt x="121204" y="349667"/>
                </a:moveTo>
                <a:lnTo>
                  <a:pt x="349667" y="349667"/>
                </a:lnTo>
                <a:lnTo>
                  <a:pt x="349667" y="121204"/>
                </a:lnTo>
                <a:lnTo>
                  <a:pt x="564733" y="121204"/>
                </a:lnTo>
                <a:lnTo>
                  <a:pt x="564733" y="349667"/>
                </a:lnTo>
                <a:lnTo>
                  <a:pt x="793196" y="349667"/>
                </a:lnTo>
                <a:lnTo>
                  <a:pt x="793196" y="564733"/>
                </a:lnTo>
                <a:lnTo>
                  <a:pt x="564733" y="564733"/>
                </a:lnTo>
                <a:lnTo>
                  <a:pt x="564733" y="793196"/>
                </a:lnTo>
                <a:lnTo>
                  <a:pt x="349667" y="793196"/>
                </a:lnTo>
                <a:lnTo>
                  <a:pt x="349667" y="564733"/>
                </a:lnTo>
                <a:lnTo>
                  <a:pt x="121204" y="564733"/>
                </a:lnTo>
                <a:lnTo>
                  <a:pt x="121204" y="34966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9" name="Straight Connector 15"/>
          <p:cNvSpPr/>
          <p:nvPr/>
        </p:nvSpPr>
        <p:spPr>
          <a:xfrm flipH="1">
            <a:off x="990360" y="2438280"/>
            <a:ext cx="75960" cy="221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0" name="Straight Connector 17"/>
          <p:cNvSpPr/>
          <p:nvPr/>
        </p:nvSpPr>
        <p:spPr>
          <a:xfrm>
            <a:off x="2666880" y="2438280"/>
            <a:ext cx="7632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1" name="Straight Connector 19"/>
          <p:cNvSpPr/>
          <p:nvPr/>
        </p:nvSpPr>
        <p:spPr>
          <a:xfrm>
            <a:off x="3352680" y="2133720"/>
            <a:ext cx="1447920" cy="2438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2" name="Straight Connector 21"/>
          <p:cNvSpPr/>
          <p:nvPr/>
        </p:nvSpPr>
        <p:spPr>
          <a:xfrm flipH="1">
            <a:off x="4800600" y="2094840"/>
            <a:ext cx="838080" cy="247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3" name="Straight Connector 23"/>
          <p:cNvSpPr/>
          <p:nvPr/>
        </p:nvSpPr>
        <p:spPr>
          <a:xfrm flipH="1">
            <a:off x="6779880" y="2440080"/>
            <a:ext cx="324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4" name="Straight Connector 25"/>
          <p:cNvSpPr/>
          <p:nvPr/>
        </p:nvSpPr>
        <p:spPr>
          <a:xfrm flipH="1">
            <a:off x="8153280" y="2438280"/>
            <a:ext cx="76320" cy="2362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5" name="TextBox 16"/>
          <p:cNvSpPr/>
          <p:nvPr/>
        </p:nvSpPr>
        <p:spPr>
          <a:xfrm>
            <a:off x="380880" y="1676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DECODING/WORD RECOGNITION</a:t>
            </a:r>
            <a:endParaRPr b="0" lang="en-US" sz="2400" spc="-1" strike="noStrike">
              <a:solidFill>
                <a:srgbClr val="000000"/>
              </a:solidFill>
              <a:latin typeface="Arial"/>
            </a:endParaRPr>
          </a:p>
        </p:txBody>
      </p:sp>
      <p:sp>
        <p:nvSpPr>
          <p:cNvPr id="3656" name="TextBox 18"/>
          <p:cNvSpPr/>
          <p:nvPr/>
        </p:nvSpPr>
        <p:spPr>
          <a:xfrm>
            <a:off x="5791320" y="1827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COMPREHENSION</a:t>
            </a:r>
            <a:endParaRPr b="0" lang="en-US" sz="2400" spc="-1" strike="noStrike">
              <a:solidFill>
                <a:srgbClr val="000000"/>
              </a:solidFill>
              <a:latin typeface="Arial"/>
            </a:endParaRPr>
          </a:p>
        </p:txBody>
      </p:sp>
      <p:sp>
        <p:nvSpPr>
          <p:cNvPr id="3657" name="TextBox 24"/>
          <p:cNvSpPr/>
          <p:nvPr/>
        </p:nvSpPr>
        <p:spPr>
          <a:xfrm>
            <a:off x="2133720" y="3505320"/>
            <a:ext cx="12952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ics</a:t>
            </a:r>
            <a:endParaRPr b="0" lang="en-US" sz="2000" spc="-1" strike="noStrike">
              <a:solidFill>
                <a:srgbClr val="000000"/>
              </a:solidFill>
              <a:latin typeface="Arial"/>
            </a:endParaRPr>
          </a:p>
        </p:txBody>
      </p:sp>
      <p:sp>
        <p:nvSpPr>
          <p:cNvPr id="3658" name="TextBox 26"/>
          <p:cNvSpPr/>
          <p:nvPr/>
        </p:nvSpPr>
        <p:spPr>
          <a:xfrm>
            <a:off x="4267080" y="5181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nstantia"/>
              </a:rPr>
              <a:t>Fluency</a:t>
            </a:r>
            <a:endParaRPr b="0" lang="en-US" sz="2000" spc="-1" strike="noStrike">
              <a:solidFill>
                <a:srgbClr val="000000"/>
              </a:solidFill>
              <a:latin typeface="Arial"/>
            </a:endParaRPr>
          </a:p>
        </p:txBody>
      </p:sp>
      <p:sp>
        <p:nvSpPr>
          <p:cNvPr id="3659" name="TextBox 27"/>
          <p:cNvSpPr/>
          <p:nvPr/>
        </p:nvSpPr>
        <p:spPr>
          <a:xfrm>
            <a:off x="6095880" y="3429000"/>
            <a:ext cx="15242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Vocabulary</a:t>
            </a:r>
            <a:endParaRPr b="0" lang="en-US" sz="2000" spc="-1" strike="noStrike">
              <a:solidFill>
                <a:srgbClr val="000000"/>
              </a:solidFill>
              <a:latin typeface="Arial"/>
            </a:endParaRPr>
          </a:p>
        </p:txBody>
      </p:sp>
      <p:sp>
        <p:nvSpPr>
          <p:cNvPr id="3660" name="TextBox 28"/>
          <p:cNvSpPr/>
          <p:nvPr/>
        </p:nvSpPr>
        <p:spPr>
          <a:xfrm>
            <a:off x="7162920" y="5257800"/>
            <a:ext cx="1981080" cy="703800"/>
          </a:xfrm>
          <a:prstGeom prst="rect">
            <a:avLst/>
          </a:prstGeom>
          <a:solidFill>
            <a:srgbClr val="d28e8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Comprehension Strategies</a:t>
            </a:r>
            <a:endParaRPr b="0" lang="en-US" sz="2000" spc="-1" strike="noStrike">
              <a:solidFill>
                <a:srgbClr val="000000"/>
              </a:solidFill>
              <a:latin typeface="Arial"/>
            </a:endParaRPr>
          </a:p>
        </p:txBody>
      </p:sp>
      <p:sp>
        <p:nvSpPr>
          <p:cNvPr id="3661" name="Title 1"/>
          <p:cNvSpPr/>
          <p:nvPr/>
        </p:nvSpPr>
        <p:spPr>
          <a:xfrm>
            <a:off x="609480" y="380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5 Essential Components of Effective Reading Instruction</a:t>
            </a:r>
            <a:endParaRPr b="0" lang="en-US" sz="3600" spc="-1" strike="noStrike">
              <a:solidFill>
                <a:srgbClr val="000000"/>
              </a:solidFill>
              <a:latin typeface="Arial"/>
            </a:endParaRPr>
          </a:p>
        </p:txBody>
      </p:sp>
      <p:sp>
        <p:nvSpPr>
          <p:cNvPr id="3662" name="TextBox 20"/>
          <p:cNvSpPr/>
          <p:nvPr/>
        </p:nvSpPr>
        <p:spPr>
          <a:xfrm>
            <a:off x="152280" y="5257800"/>
            <a:ext cx="19814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emic Aware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62"/>
                                        </p:tgtEl>
                                        <p:attrNameLst>
                                          <p:attrName>style.visibility</p:attrName>
                                        </p:attrNameLst>
                                      </p:cBhvr>
                                      <p:to>
                                        <p:strVal val="visible"/>
                                      </p:to>
                                    </p:set>
                                    <p:anim calcmode="lin" valueType="num">
                                      <p:cBhvr additive="base">
                                        <p:cTn id="61" dur="500" fill="hold"/>
                                        <p:tgtEl>
                                          <p:spTgt spid="3662"/>
                                        </p:tgtEl>
                                        <p:attrNameLst>
                                          <p:attrName>ppt_x</p:attrName>
                                        </p:attrNameLst>
                                      </p:cBhvr>
                                      <p:tavLst>
                                        <p:tav tm="0">
                                          <p:val>
                                            <p:strVal val="#ppt_x"/>
                                          </p:val>
                                        </p:tav>
                                        <p:tav tm="100000">
                                          <p:val>
                                            <p:strVal val="#ppt_x"/>
                                          </p:val>
                                        </p:tav>
                                      </p:tavLst>
                                    </p:anim>
                                    <p:anim calcmode="lin" valueType="num">
                                      <p:cBhvr additive="base">
                                        <p:cTn id="62" dur="500" fill="hold"/>
                                        <p:tgtEl>
                                          <p:spTgt spid="3662"/>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57"/>
                                        </p:tgtEl>
                                        <p:attrNameLst>
                                          <p:attrName>style.visibility</p:attrName>
                                        </p:attrNameLst>
                                      </p:cBhvr>
                                      <p:to>
                                        <p:strVal val="visible"/>
                                      </p:to>
                                    </p:set>
                                    <p:anim calcmode="lin" valueType="num">
                                      <p:cBhvr additive="base">
                                        <p:cTn id="67" dur="500" fill="hold"/>
                                        <p:tgtEl>
                                          <p:spTgt spid="3657"/>
                                        </p:tgtEl>
                                        <p:attrNameLst>
                                          <p:attrName>ppt_x</p:attrName>
                                        </p:attrNameLst>
                                      </p:cBhvr>
                                      <p:tavLst>
                                        <p:tav tm="0">
                                          <p:val>
                                            <p:strVal val="#ppt_x"/>
                                          </p:val>
                                        </p:tav>
                                        <p:tav tm="100000">
                                          <p:val>
                                            <p:strVal val="#ppt_x"/>
                                          </p:val>
                                        </p:tav>
                                      </p:tavLst>
                                    </p:anim>
                                    <p:anim calcmode="lin" valueType="num">
                                      <p:cBhvr additive="base">
                                        <p:cTn id="68" dur="500" fill="hold"/>
                                        <p:tgtEl>
                                          <p:spTgt spid="3657"/>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58"/>
                                        </p:tgtEl>
                                        <p:attrNameLst>
                                          <p:attrName>style.visibility</p:attrName>
                                        </p:attrNameLst>
                                      </p:cBhvr>
                                      <p:to>
                                        <p:strVal val="visible"/>
                                      </p:to>
                                    </p:set>
                                    <p:anim calcmode="lin" valueType="num">
                                      <p:cBhvr additive="base">
                                        <p:cTn id="73" dur="500" fill="hold"/>
                                        <p:tgtEl>
                                          <p:spTgt spid="3658"/>
                                        </p:tgtEl>
                                        <p:attrNameLst>
                                          <p:attrName>ppt_x</p:attrName>
                                        </p:attrNameLst>
                                      </p:cBhvr>
                                      <p:tavLst>
                                        <p:tav tm="0">
                                          <p:val>
                                            <p:strVal val="#ppt_x"/>
                                          </p:val>
                                        </p:tav>
                                        <p:tav tm="100000">
                                          <p:val>
                                            <p:strVal val="#ppt_x"/>
                                          </p:val>
                                        </p:tav>
                                      </p:tavLst>
                                    </p:anim>
                                    <p:anim calcmode="lin" valueType="num">
                                      <p:cBhvr additive="base">
                                        <p:cTn id="74" dur="500" fill="hold"/>
                                        <p:tgtEl>
                                          <p:spTgt spid="3658"/>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59"/>
                                        </p:tgtEl>
                                        <p:attrNameLst>
                                          <p:attrName>style.visibility</p:attrName>
                                        </p:attrNameLst>
                                      </p:cBhvr>
                                      <p:to>
                                        <p:strVal val="visible"/>
                                      </p:to>
                                    </p:set>
                                    <p:anim calcmode="lin" valueType="num">
                                      <p:cBhvr additive="base">
                                        <p:cTn id="79" dur="500" fill="hold"/>
                                        <p:tgtEl>
                                          <p:spTgt spid="3659"/>
                                        </p:tgtEl>
                                        <p:attrNameLst>
                                          <p:attrName>ppt_x</p:attrName>
                                        </p:attrNameLst>
                                      </p:cBhvr>
                                      <p:tavLst>
                                        <p:tav tm="0">
                                          <p:val>
                                            <p:strVal val="#ppt_x"/>
                                          </p:val>
                                        </p:tav>
                                        <p:tav tm="100000">
                                          <p:val>
                                            <p:strVal val="#ppt_x"/>
                                          </p:val>
                                        </p:tav>
                                      </p:tavLst>
                                    </p:anim>
                                    <p:anim calcmode="lin" valueType="num">
                                      <p:cBhvr additive="base">
                                        <p:cTn id="80" dur="500" fill="hold"/>
                                        <p:tgtEl>
                                          <p:spTgt spid="365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60"/>
                                        </p:tgtEl>
                                        <p:attrNameLst>
                                          <p:attrName>style.visibility</p:attrName>
                                        </p:attrNameLst>
                                      </p:cBhvr>
                                      <p:to>
                                        <p:strVal val="visible"/>
                                      </p:to>
                                    </p:set>
                                    <p:anim calcmode="lin" valueType="num">
                                      <p:cBhvr additive="base">
                                        <p:cTn id="85" dur="500" fill="hold"/>
                                        <p:tgtEl>
                                          <p:spTgt spid="3660"/>
                                        </p:tgtEl>
                                        <p:attrNameLst>
                                          <p:attrName>ppt_x</p:attrName>
                                        </p:attrNameLst>
                                      </p:cBhvr>
                                      <p:tavLst>
                                        <p:tav tm="0">
                                          <p:val>
                                            <p:strVal val="#ppt_x"/>
                                          </p:val>
                                        </p:tav>
                                        <p:tav tm="100000">
                                          <p:val>
                                            <p:strVal val="#ppt_x"/>
                                          </p:val>
                                        </p:tav>
                                      </p:tavLst>
                                    </p:anim>
                                    <p:anim calcmode="lin" valueType="num">
                                      <p:cBhvr additive="base">
                                        <p:cTn id="86" dur="500" fill="hold"/>
                                        <p:tgtEl>
                                          <p:spTgt spid="3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title"/>
          </p:nvPr>
        </p:nvSpPr>
        <p:spPr>
          <a:xfrm>
            <a:off x="1755720" y="228240"/>
            <a:ext cx="7238880" cy="1143000"/>
          </a:xfrm>
          <a:prstGeom prst="rect">
            <a:avLst/>
          </a:prstGeom>
          <a:solidFill>
            <a:srgbClr val="1f497d"/>
          </a:solidFill>
          <a:ln w="9360">
            <a:solidFill>
              <a:srgbClr val="1f49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ulturally Responsive Instruction: Approach to Teaching</a:t>
            </a:r>
            <a:endParaRPr b="0" lang="en-US" sz="4000" spc="-1" strike="noStrike">
              <a:solidFill>
                <a:srgbClr val="000000"/>
              </a:solidFill>
              <a:latin typeface="Calibri"/>
            </a:endParaRPr>
          </a:p>
        </p:txBody>
      </p:sp>
      <p:sp>
        <p:nvSpPr>
          <p:cNvPr id="3664" name=""/>
          <p:cNvSpPr txBox="1"/>
          <p:nvPr/>
        </p:nvSpPr>
        <p:spPr>
          <a:xfrm>
            <a:off x="990720" y="1752120"/>
            <a:ext cx="7162560" cy="4496040"/>
          </a:xfrm>
          <a:prstGeom prst="rect">
            <a:avLst/>
          </a:prstGeom>
          <a:noFill/>
          <a:ln w="76320">
            <a:solidFill>
              <a:srgbClr val="1f497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ing to students’ backgr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on students’ home dial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for dialogic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a rigorous curricul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ing to classroom discour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e explicit &amp; Scaffol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do, We-do, You-do)</a:t>
            </a:r>
            <a:endParaRPr b="0" lang="en-US" sz="3200" spc="-1" strike="noStrike">
              <a:solidFill>
                <a:srgbClr val="000000"/>
              </a:solidFill>
              <a:latin typeface="Calibri"/>
            </a:endParaRPr>
          </a:p>
        </p:txBody>
      </p:sp>
      <p:pic>
        <p:nvPicPr>
          <p:cNvPr id="3665" name="Picture 2" descr=""/>
          <p:cNvPicPr/>
          <p:nvPr/>
        </p:nvPicPr>
        <p:blipFill>
          <a:blip r:embed="rId1"/>
          <a:stretch/>
        </p:blipFill>
        <p:spPr>
          <a:xfrm>
            <a:off x="7238880" y="4873680"/>
            <a:ext cx="2000520" cy="1984320"/>
          </a:xfrm>
          <a:prstGeom prst="rect">
            <a:avLst/>
          </a:prstGeom>
          <a:ln w="0">
            <a:noFill/>
          </a:ln>
        </p:spPr>
      </p:pic>
      <p:pic>
        <p:nvPicPr>
          <p:cNvPr id="3666" name="Picture 3" descr=""/>
          <p:cNvPicPr/>
          <p:nvPr/>
        </p:nvPicPr>
        <p:blipFill>
          <a:blip r:embed="rId2"/>
          <a:stretch/>
        </p:blipFill>
        <p:spPr>
          <a:xfrm>
            <a:off x="-9360" y="4873680"/>
            <a:ext cx="2676240" cy="1984320"/>
          </a:xfrm>
          <a:prstGeom prst="rect">
            <a:avLst/>
          </a:prstGeom>
          <a:ln w="0">
            <a:noFill/>
          </a:ln>
        </p:spPr>
      </p:pic>
      <p:pic>
        <p:nvPicPr>
          <p:cNvPr id="3667" name="Picture 5" descr=""/>
          <p:cNvPicPr/>
          <p:nvPr/>
        </p:nvPicPr>
        <p:blipFill>
          <a:blip r:embed="rId3"/>
          <a:stretch/>
        </p:blipFill>
        <p:spPr>
          <a:xfrm>
            <a:off x="31680" y="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3669" name="Diagram 4" descr=""/>
          <p:cNvPicPr/>
          <p:nvPr/>
        </p:nvPicPr>
        <p:blipFill>
          <a:blip r:embed="rId1"/>
          <a:stretch/>
        </p:blipFill>
        <p:spPr>
          <a:xfrm>
            <a:off x="457200" y="1895400"/>
            <a:ext cx="8381880" cy="4213440"/>
          </a:xfrm>
          <a:prstGeom prst="rect">
            <a:avLst/>
          </a:prstGeom>
          <a:ln w="0">
            <a:noFill/>
          </a:ln>
        </p:spPr>
      </p:pic>
      <p:sp>
        <p:nvSpPr>
          <p:cNvPr id="3670"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Organizing for Effective Reading Instruction </a:t>
            </a:r>
            <a:endParaRPr b="0" lang="en-US" sz="3800" spc="-1" strike="noStrike">
              <a:solidFill>
                <a:srgbClr val="000000"/>
              </a:solidFill>
              <a:latin typeface="Calibri"/>
            </a:endParaRPr>
          </a:p>
        </p:txBody>
      </p:sp>
      <p:sp>
        <p:nvSpPr>
          <p:cNvPr id="367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s find comfort in familiar instructional routines and schedules in a well-organized classro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ildren need to experience a variety of interactive settings: whole class, small groups, and individually each da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s should be flexible, meet the needs of students, and involve research-based instructional practic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ily planned, intentional, and explicit instruction of all literacy skills and strateg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ety of assessments play a key role in instructional decisions that meet the developmental needs of student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title"/>
          </p:nvPr>
        </p:nvSpPr>
        <p:spPr>
          <a:xfrm>
            <a:off x="685440" y="188640"/>
            <a:ext cx="71629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 Plan Instruction in this Manner</a:t>
            </a:r>
            <a:endParaRPr b="0" lang="en-US" sz="3400" spc="-1" strike="noStrike">
              <a:solidFill>
                <a:srgbClr val="000000"/>
              </a:solidFill>
              <a:latin typeface="Calibri"/>
            </a:endParaRPr>
          </a:p>
        </p:txBody>
      </p:sp>
      <p:sp>
        <p:nvSpPr>
          <p:cNvPr id="3674" name=""/>
          <p:cNvSpPr txBox="1"/>
          <p:nvPr/>
        </p:nvSpPr>
        <p:spPr>
          <a:xfrm>
            <a:off x="380880" y="1752120"/>
            <a:ext cx="8229600" cy="4419720"/>
          </a:xfrm>
          <a:prstGeom prst="rect">
            <a:avLst/>
          </a:prstGeom>
          <a:noFill/>
          <a:ln w="0">
            <a:noFill/>
          </a:ln>
        </p:spPr>
        <p:txBody>
          <a:bodyPr lIns="50760" rIns="50760" tIns="50760" bIns="50760" anchor="t">
            <a:normAutofit/>
          </a:bodyPr>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Knowledge of the </a:t>
            </a:r>
            <a:r>
              <a:rPr b="1" i="1" lang="en-US" sz="2400" spc="-1" strike="noStrike">
                <a:solidFill>
                  <a:srgbClr val="3e3d2d"/>
                </a:solidFill>
                <a:latin typeface="Calibri"/>
              </a:rPr>
              <a:t>learners</a:t>
            </a:r>
            <a:r>
              <a:rPr b="0" lang="en-US" sz="2400" spc="-1" strike="noStrike">
                <a:solidFill>
                  <a:srgbClr val="3e3d2d"/>
                </a:solidFill>
                <a:latin typeface="Calibri"/>
              </a:rPr>
              <a:t> and how they learn and develop within social contexts </a:t>
            </a:r>
            <a:r>
              <a:rPr b="0" i="1" lang="en-US" sz="2400" spc="-1" strike="noStrike" u="sng">
                <a:solidFill>
                  <a:srgbClr val="3e3d2d"/>
                </a:solidFill>
                <a:uFillTx/>
                <a:latin typeface="Calibri"/>
              </a:rPr>
              <a:t>(reading development and how it occurs in the classroom)</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Conceptions of </a:t>
            </a:r>
            <a:r>
              <a:rPr b="1" i="1" lang="en-US" sz="2400" spc="-1" strike="noStrike">
                <a:solidFill>
                  <a:srgbClr val="3e3d2d"/>
                </a:solidFill>
                <a:latin typeface="Calibri"/>
              </a:rPr>
              <a:t>curriculum</a:t>
            </a:r>
            <a:r>
              <a:rPr b="0" lang="en-US" sz="2400" spc="-1" strike="noStrike">
                <a:solidFill>
                  <a:srgbClr val="3e3d2d"/>
                </a:solidFill>
                <a:latin typeface="Calibri"/>
              </a:rPr>
              <a:t> content and goals – understanding the subject matter and skills to be taught in light of the social purposes of education (</a:t>
            </a:r>
            <a:r>
              <a:rPr b="0" i="1" lang="en-US" sz="2400" spc="-1" strike="noStrike" u="sng">
                <a:solidFill>
                  <a:srgbClr val="3e3d2d"/>
                </a:solidFill>
                <a:uFillTx/>
                <a:latin typeface="Calibri"/>
              </a:rPr>
              <a:t>reading process and reading skills</a:t>
            </a:r>
            <a:r>
              <a:rPr b="0" lang="en-US" sz="2400" spc="-1" strike="noStrike">
                <a:solidFill>
                  <a:srgbClr val="3e3d2d"/>
                </a:solidFill>
                <a:latin typeface="Calibri"/>
              </a:rPr>
              <a:t>)</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Understand </a:t>
            </a:r>
            <a:r>
              <a:rPr b="1" i="1" lang="en-US" sz="2400" spc="-1" strike="noStrike">
                <a:solidFill>
                  <a:srgbClr val="3e3d2d"/>
                </a:solidFill>
                <a:latin typeface="Calibri"/>
              </a:rPr>
              <a:t>teaching</a:t>
            </a:r>
            <a:r>
              <a:rPr b="0" lang="en-US" sz="2400" spc="-1" strike="noStrike">
                <a:solidFill>
                  <a:srgbClr val="3e3d2d"/>
                </a:solidFill>
                <a:latin typeface="Calibri"/>
              </a:rPr>
              <a:t> in light of the content and learners to be taught, as informed by assessment and supported by productive classroom environments </a:t>
            </a:r>
            <a:r>
              <a:rPr b="0" i="1" lang="en-US" sz="2400" spc="-1" strike="noStrike" u="sng">
                <a:solidFill>
                  <a:srgbClr val="3e3d2d"/>
                </a:solidFill>
                <a:uFillTx/>
                <a:latin typeface="Calibri"/>
              </a:rPr>
              <a:t>(how do I teach reading skills)</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75" name="Picture 3" descr="asset.jpg"/>
          <p:cNvPicPr/>
          <p:nvPr/>
        </p:nvPicPr>
        <p:blipFill>
          <a:blip r:embed="rId1"/>
          <a:stretch/>
        </p:blipFill>
        <p:spPr>
          <a:xfrm>
            <a:off x="7556400" y="0"/>
            <a:ext cx="1359000" cy="1752480"/>
          </a:xfrm>
          <a:prstGeom prst="rect">
            <a:avLst/>
          </a:prstGeom>
          <a:ln w="0">
            <a:noFill/>
          </a:ln>
        </p:spPr>
      </p:pic>
      <p:sp>
        <p:nvSpPr>
          <p:cNvPr id="3676" name="TextBox 2"/>
          <p:cNvSpPr/>
          <p:nvPr/>
        </p:nvSpPr>
        <p:spPr>
          <a:xfrm>
            <a:off x="4800600" y="6400800"/>
            <a:ext cx="365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Arial"/>
                <a:ea typeface="Arial"/>
              </a:rPr>
              <a:t>(Darling-Hammond &amp; Bransford, 2005)</a:t>
            </a:r>
            <a:endParaRPr b="0" lang="en-US" sz="1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3674">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674">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36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677" name="Straight Arrow Connector 52"/>
          <p:cNvCxnSpPr/>
          <p:nvPr/>
        </p:nvCxnSpPr>
        <p:spPr>
          <a:xfrm flipH="1">
            <a:off x="5790600" y="3684600"/>
            <a:ext cx="991080" cy="1566000"/>
          </a:xfrm>
          <a:prstGeom prst="straightConnector1">
            <a:avLst/>
          </a:prstGeom>
          <a:ln w="25560">
            <a:solidFill>
              <a:srgbClr val="0070c0"/>
            </a:solidFill>
            <a:miter/>
            <a:tailEnd len="med" type="triangle" w="med"/>
          </a:ln>
        </p:spPr>
      </p:cxnSp>
      <p:cxnSp>
        <p:nvCxnSpPr>
          <p:cNvPr id="3678" name="Straight Arrow Connector 51"/>
          <p:cNvCxnSpPr/>
          <p:nvPr/>
        </p:nvCxnSpPr>
        <p:spPr>
          <a:xfrm flipH="1">
            <a:off x="4293360" y="3773160"/>
            <a:ext cx="762840" cy="1421640"/>
          </a:xfrm>
          <a:prstGeom prst="straightConnector1">
            <a:avLst/>
          </a:prstGeom>
          <a:ln w="25560">
            <a:solidFill>
              <a:srgbClr val="0070c0"/>
            </a:solidFill>
            <a:miter/>
            <a:tailEnd len="med" type="triangle" w="med"/>
          </a:ln>
        </p:spPr>
      </p:cxnSp>
      <p:sp>
        <p:nvSpPr>
          <p:cNvPr id="3679" name="Oval 12"/>
          <p:cNvSpPr/>
          <p:nvPr/>
        </p:nvSpPr>
        <p:spPr>
          <a:xfrm>
            <a:off x="297180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1</a:t>
            </a:r>
            <a:r>
              <a:rPr b="1" lang="en-US" sz="1400" spc="-1" strike="noStrike" u="sng" baseline="30000">
                <a:solidFill>
                  <a:srgbClr val="000000"/>
                </a:solidFill>
                <a:uFillTx/>
                <a:latin typeface="Times New Roman"/>
                <a:ea typeface="SimSun"/>
              </a:rPr>
              <a:t>st</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80" name="Oval 13"/>
          <p:cNvSpPr/>
          <p:nvPr/>
        </p:nvSpPr>
        <p:spPr>
          <a:xfrm>
            <a:off x="299880" y="2602080"/>
            <a:ext cx="1752840" cy="114300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Kindergarten</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81" name="Rounded Rectangle 15"/>
          <p:cNvSpPr/>
          <p:nvPr/>
        </p:nvSpPr>
        <p:spPr>
          <a:xfrm>
            <a:off x="304920" y="5181480"/>
            <a:ext cx="1747800" cy="6858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libri"/>
              </a:rPr>
              <a:t>Emergent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rephonetic</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Semiphonetic</a:t>
            </a:r>
            <a:endParaRPr b="0" lang="en-US" sz="1200" spc="-1" strike="noStrike">
              <a:solidFill>
                <a:srgbClr val="000000"/>
              </a:solidFill>
              <a:latin typeface="Arial"/>
            </a:endParaRPr>
          </a:p>
        </p:txBody>
      </p:sp>
      <p:sp>
        <p:nvSpPr>
          <p:cNvPr id="3682" name="Rounded Rectangle 20"/>
          <p:cNvSpPr/>
          <p:nvPr/>
        </p:nvSpPr>
        <p:spPr>
          <a:xfrm>
            <a:off x="3200400" y="5181480"/>
            <a:ext cx="914400" cy="9144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Letter Name Stag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3" name="Rounded Rectangle 21"/>
          <p:cNvSpPr/>
          <p:nvPr/>
        </p:nvSpPr>
        <p:spPr>
          <a:xfrm>
            <a:off x="4876920" y="5181480"/>
            <a:ext cx="914400" cy="89244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Within Word Pattern Stage</a:t>
            </a:r>
            <a:endParaRPr b="0" lang="en-US" sz="1200" spc="-1" strike="noStrike">
              <a:solidFill>
                <a:srgbClr val="000000"/>
              </a:solidFill>
              <a:latin typeface="Arial"/>
            </a:endParaRPr>
          </a:p>
        </p:txBody>
      </p:sp>
      <p:sp>
        <p:nvSpPr>
          <p:cNvPr id="3684" name="Rounded Rectangle 22"/>
          <p:cNvSpPr/>
          <p:nvPr/>
        </p:nvSpPr>
        <p:spPr>
          <a:xfrm>
            <a:off x="7696080" y="5181480"/>
            <a:ext cx="1217880" cy="8766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Derivational Constancy Stage</a:t>
            </a:r>
            <a:endParaRPr b="0" lang="en-US" sz="1200" spc="-1" strike="noStrike">
              <a:solidFill>
                <a:srgbClr val="000000"/>
              </a:solidFill>
              <a:latin typeface="Arial"/>
            </a:endParaRPr>
          </a:p>
        </p:txBody>
      </p:sp>
      <p:sp>
        <p:nvSpPr>
          <p:cNvPr id="3685" name="Rounded Rectangle 23"/>
          <p:cNvSpPr/>
          <p:nvPr/>
        </p:nvSpPr>
        <p:spPr>
          <a:xfrm>
            <a:off x="6400800" y="5181480"/>
            <a:ext cx="914400" cy="87948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Syllable Juncture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cxnSp>
        <p:nvCxnSpPr>
          <p:cNvPr id="3686" name="Straight Arrow Connector 80"/>
          <p:cNvCxnSpPr>
            <a:stCxn id="3680" idx="4"/>
            <a:endCxn id="3681" idx="0"/>
          </p:cNvCxnSpPr>
          <p:nvPr/>
        </p:nvCxnSpPr>
        <p:spPr>
          <a:xfrm>
            <a:off x="1176480" y="3745080"/>
            <a:ext cx="3600" cy="1437120"/>
          </a:xfrm>
          <a:prstGeom prst="straightConnector1">
            <a:avLst/>
          </a:prstGeom>
          <a:ln w="25560">
            <a:solidFill>
              <a:srgbClr val="0070c0"/>
            </a:solidFill>
            <a:miter/>
            <a:tailEnd len="med" type="triangle" w="med"/>
          </a:ln>
        </p:spPr>
      </p:cxnSp>
      <p:sp>
        <p:nvSpPr>
          <p:cNvPr id="36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6A6BD-4799-4E7C-8583-7E704EA4CA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88" name="Rounded Rectangle 30"/>
          <p:cNvSpPr/>
          <p:nvPr/>
        </p:nvSpPr>
        <p:spPr>
          <a:xfrm>
            <a:off x="304920" y="1219320"/>
            <a:ext cx="1752480" cy="838080"/>
          </a:xfrm>
          <a:prstGeom prst="roundRect">
            <a:avLst>
              <a:gd name="adj" fmla="val 16667"/>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honemic Awareness Test (PAT)</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Dec/April)</a:t>
            </a:r>
            <a:endParaRPr b="0" lang="en-US" sz="1200" spc="-1" strike="noStrike">
              <a:solidFill>
                <a:srgbClr val="000000"/>
              </a:solidFill>
              <a:latin typeface="Arial"/>
            </a:endParaRPr>
          </a:p>
        </p:txBody>
      </p:sp>
      <p:cxnSp>
        <p:nvCxnSpPr>
          <p:cNvPr id="3689" name="Straight Arrow Connector 7"/>
          <p:cNvCxnSpPr/>
          <p:nvPr/>
        </p:nvCxnSpPr>
        <p:spPr>
          <a:xfrm flipV="1">
            <a:off x="1195200" y="2048040"/>
            <a:ext cx="1080" cy="559080"/>
          </a:xfrm>
          <a:prstGeom prst="straightConnector1">
            <a:avLst/>
          </a:prstGeom>
          <a:ln w="25560">
            <a:solidFill>
              <a:srgbClr val="0070c0"/>
            </a:solidFill>
            <a:miter/>
            <a:tailEnd len="med" type="triangle" w="med"/>
          </a:ln>
        </p:spPr>
      </p:cxnSp>
      <p:sp>
        <p:nvSpPr>
          <p:cNvPr id="3690" name="Oval 158"/>
          <p:cNvSpPr/>
          <p:nvPr/>
        </p:nvSpPr>
        <p:spPr>
          <a:xfrm>
            <a:off x="464832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SimSun"/>
              </a:rPr>
              <a:t>2</a:t>
            </a:r>
            <a:r>
              <a:rPr b="1" lang="en-US" sz="1200" spc="-1" strike="noStrike" u="sng" baseline="30000">
                <a:solidFill>
                  <a:srgbClr val="000000"/>
                </a:solidFill>
                <a:uFillTx/>
                <a:latin typeface="Times New Roman"/>
                <a:ea typeface="SimSun"/>
              </a:rPr>
              <a:t>nd-</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cxnSp>
        <p:nvCxnSpPr>
          <p:cNvPr id="3691" name="Straight Arrow Connector 364"/>
          <p:cNvCxnSpPr/>
          <p:nvPr/>
        </p:nvCxnSpPr>
        <p:spPr>
          <a:xfrm>
            <a:off x="3649680" y="3696840"/>
            <a:ext cx="8640" cy="1485000"/>
          </a:xfrm>
          <a:prstGeom prst="straightConnector1">
            <a:avLst/>
          </a:prstGeom>
          <a:ln w="25560">
            <a:solidFill>
              <a:srgbClr val="0070c0"/>
            </a:solidFill>
            <a:miter/>
            <a:tailEnd len="med" type="triangle" w="med"/>
          </a:ln>
        </p:spPr>
      </p:cxnSp>
      <p:sp>
        <p:nvSpPr>
          <p:cNvPr id="3692" name="Rectangle 162"/>
          <p:cNvSpPr/>
          <p:nvPr/>
        </p:nvSpPr>
        <p:spPr>
          <a:xfrm>
            <a:off x="2671920" y="4083120"/>
            <a:ext cx="60912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Developmental Spelling Analysis (DSA) Screener </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nd Feature Inventory (Diagnostic)</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ug, Dec, April) </a:t>
            </a:r>
            <a:endParaRPr b="0" lang="en-US" sz="1600" spc="-1" strike="noStrike">
              <a:solidFill>
                <a:srgbClr val="000000"/>
              </a:solidFill>
              <a:latin typeface="Arial"/>
            </a:endParaRPr>
          </a:p>
        </p:txBody>
      </p:sp>
      <p:sp>
        <p:nvSpPr>
          <p:cNvPr id="3693" name="Oval 365"/>
          <p:cNvSpPr/>
          <p:nvPr/>
        </p:nvSpPr>
        <p:spPr>
          <a:xfrm>
            <a:off x="6172200" y="2438280"/>
            <a:ext cx="1371600" cy="124632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3</a:t>
            </a:r>
            <a:r>
              <a:rPr b="1" lang="en-US" sz="1400" spc="-1" strike="noStrike" u="sng" baseline="30000">
                <a:solidFill>
                  <a:srgbClr val="000000"/>
                </a:solidFill>
                <a:uFillTx/>
                <a:latin typeface="Times New Roman"/>
                <a:ea typeface="SimSun"/>
              </a:rPr>
              <a:t>rd</a:t>
            </a:r>
            <a:r>
              <a:rPr b="1" lang="en-US" sz="1400" spc="-1" strike="noStrike" u="sng">
                <a:solidFill>
                  <a:srgbClr val="000000"/>
                </a:solidFill>
                <a:uFillTx/>
                <a:latin typeface="Times New Roman"/>
                <a:ea typeface="SimSun"/>
              </a:rPr>
              <a:t>-Grade and UP</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94" name="Oval 379"/>
          <p:cNvSpPr/>
          <p:nvPr/>
        </p:nvSpPr>
        <p:spPr>
          <a:xfrm>
            <a:off x="2514600" y="2057400"/>
            <a:ext cx="5410080" cy="1905120"/>
          </a:xfrm>
          <a:prstGeom prst="ellipse">
            <a:avLst/>
          </a:prstGeom>
          <a:noFill/>
          <a:ln w="25560">
            <a:solidFill>
              <a:srgbClr val="c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5" name="Rectangle 380"/>
          <p:cNvSpPr/>
          <p:nvPr/>
        </p:nvSpPr>
        <p:spPr>
          <a:xfrm>
            <a:off x="5562720" y="152280"/>
            <a:ext cx="1600200" cy="91440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creening</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rades 1, 2, &amp; 3 (August/December/April)</a:t>
            </a:r>
            <a:endParaRPr b="0" lang="en-US" sz="1400" spc="-1" strike="noStrike">
              <a:solidFill>
                <a:srgbClr val="000000"/>
              </a:solidFill>
              <a:latin typeface="Arial"/>
            </a:endParaRPr>
          </a:p>
        </p:txBody>
      </p:sp>
      <p:sp>
        <p:nvSpPr>
          <p:cNvPr id="3696" name="Rectangle 31"/>
          <p:cNvSpPr/>
          <p:nvPr/>
        </p:nvSpPr>
        <p:spPr>
          <a:xfrm>
            <a:off x="7848720" y="763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Word Readin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TOWR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DE/SWE</a:t>
            </a:r>
            <a:endParaRPr b="0" lang="en-US" sz="1400" spc="-1" strike="noStrike">
              <a:solidFill>
                <a:srgbClr val="000000"/>
              </a:solidFill>
              <a:latin typeface="Arial"/>
            </a:endParaRPr>
          </a:p>
        </p:txBody>
      </p:sp>
      <p:sp>
        <p:nvSpPr>
          <p:cNvPr id="3697" name="Rectangle 32"/>
          <p:cNvSpPr/>
          <p:nvPr/>
        </p:nvSpPr>
        <p:spPr>
          <a:xfrm>
            <a:off x="7848720" y="9907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luency</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ccumaticity</a:t>
            </a:r>
            <a:endParaRPr b="0" lang="en-US" sz="1400" spc="-1" strike="noStrike">
              <a:solidFill>
                <a:srgbClr val="000000"/>
              </a:solidFill>
              <a:latin typeface="Arial"/>
            </a:endParaRPr>
          </a:p>
        </p:txBody>
      </p:sp>
      <p:sp>
        <p:nvSpPr>
          <p:cNvPr id="3698" name="Rectangle 34"/>
          <p:cNvSpPr/>
          <p:nvPr/>
        </p:nvSpPr>
        <p:spPr>
          <a:xfrm>
            <a:off x="7848720" y="1905120"/>
            <a:ext cx="1218960" cy="7239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P</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 CCSS Questions</a:t>
            </a:r>
            <a:endParaRPr b="0" lang="en-US" sz="1400" spc="-1" strike="noStrike">
              <a:solidFill>
                <a:srgbClr val="000000"/>
              </a:solidFill>
              <a:latin typeface="Arial"/>
            </a:endParaRPr>
          </a:p>
        </p:txBody>
      </p:sp>
      <p:cxnSp>
        <p:nvCxnSpPr>
          <p:cNvPr id="3699" name="Straight Arrow Connector 3"/>
          <p:cNvCxnSpPr>
            <a:endCxn id="3696" idx="1"/>
          </p:cNvCxnSpPr>
          <p:nvPr/>
        </p:nvCxnSpPr>
        <p:spPr>
          <a:xfrm>
            <a:off x="7162560" y="456840"/>
            <a:ext cx="686520" cy="1080"/>
          </a:xfrm>
          <a:prstGeom prst="straightConnector1">
            <a:avLst/>
          </a:prstGeom>
          <a:ln w="25560">
            <a:solidFill>
              <a:srgbClr val="0070c0"/>
            </a:solidFill>
            <a:miter/>
            <a:tailEnd len="med" type="triangle" w="med"/>
          </a:ln>
        </p:spPr>
      </p:cxnSp>
      <p:cxnSp>
        <p:nvCxnSpPr>
          <p:cNvPr id="3700" name="Straight Arrow Connector 37"/>
          <p:cNvCxnSpPr/>
          <p:nvPr/>
        </p:nvCxnSpPr>
        <p:spPr>
          <a:xfrm>
            <a:off x="7162560" y="609480"/>
            <a:ext cx="686520" cy="610560"/>
          </a:xfrm>
          <a:prstGeom prst="straightConnector1">
            <a:avLst/>
          </a:prstGeom>
          <a:ln w="25560">
            <a:solidFill>
              <a:srgbClr val="0070c0"/>
            </a:solidFill>
            <a:miter/>
            <a:tailEnd len="med" type="triangle" w="med"/>
          </a:ln>
        </p:spPr>
      </p:cxnSp>
      <p:cxnSp>
        <p:nvCxnSpPr>
          <p:cNvPr id="3701" name="Straight Arrow Connector 38"/>
          <p:cNvCxnSpPr>
            <a:endCxn id="3698" idx="1"/>
          </p:cNvCxnSpPr>
          <p:nvPr/>
        </p:nvCxnSpPr>
        <p:spPr>
          <a:xfrm>
            <a:off x="7162560" y="837720"/>
            <a:ext cx="686520" cy="1429560"/>
          </a:xfrm>
          <a:prstGeom prst="straightConnector1">
            <a:avLst/>
          </a:prstGeom>
          <a:ln w="25560">
            <a:solidFill>
              <a:srgbClr val="0070c0"/>
            </a:solidFill>
            <a:miter/>
            <a:tailEnd len="med" type="triangle" w="med"/>
          </a:ln>
        </p:spPr>
      </p:cxnSp>
      <p:sp>
        <p:nvSpPr>
          <p:cNvPr id="3702" name="TextBox 1"/>
          <p:cNvSpPr/>
          <p:nvPr/>
        </p:nvSpPr>
        <p:spPr>
          <a:xfrm>
            <a:off x="1828800" y="61920"/>
            <a:ext cx="3390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K-3 Literacy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Diagnostic Assessment System</a:t>
            </a:r>
            <a:endParaRPr b="0" lang="en-US" sz="2400" spc="-1" strike="noStrike">
              <a:solidFill>
                <a:srgbClr val="000000"/>
              </a:solidFill>
              <a:latin typeface="Arial"/>
            </a:endParaRPr>
          </a:p>
        </p:txBody>
      </p:sp>
      <p:cxnSp>
        <p:nvCxnSpPr>
          <p:cNvPr id="3703" name="Straight Arrow Connector 69"/>
          <p:cNvCxnSpPr/>
          <p:nvPr/>
        </p:nvCxnSpPr>
        <p:spPr>
          <a:xfrm flipV="1">
            <a:off x="7315200" y="5637960"/>
            <a:ext cx="386640" cy="1080"/>
          </a:xfrm>
          <a:prstGeom prst="straightConnector1">
            <a:avLst/>
          </a:prstGeom>
          <a:ln w="25560">
            <a:solidFill>
              <a:srgbClr val="0070c0"/>
            </a:solidFill>
            <a:miter/>
            <a:tailEnd len="med" type="triangle" w="med"/>
          </a:ln>
        </p:spPr>
      </p:cxnSp>
      <p:sp>
        <p:nvSpPr>
          <p:cNvPr id="3704" name="Rounded Rectangle 29"/>
          <p:cNvSpPr/>
          <p:nvPr/>
        </p:nvSpPr>
        <p:spPr>
          <a:xfrm>
            <a:off x="32004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A-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5" name="Rounded Rectangle 33"/>
          <p:cNvSpPr/>
          <p:nvPr/>
        </p:nvSpPr>
        <p:spPr>
          <a:xfrm>
            <a:off x="48769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F-J</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6" name="Rounded Rectangle 35"/>
          <p:cNvSpPr/>
          <p:nvPr/>
        </p:nvSpPr>
        <p:spPr>
          <a:xfrm>
            <a:off x="64008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K-O</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7" name="Rounded Rectangle 36"/>
          <p:cNvSpPr/>
          <p:nvPr/>
        </p:nvSpPr>
        <p:spPr>
          <a:xfrm>
            <a:off x="78487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P-T</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08" name="Straight Arrow Connector 39"/>
          <p:cNvCxnSpPr>
            <a:endCxn id="3704" idx="0"/>
          </p:cNvCxnSpPr>
          <p:nvPr/>
        </p:nvCxnSpPr>
        <p:spPr>
          <a:xfrm>
            <a:off x="3657240" y="6095880"/>
            <a:ext cx="1080" cy="153360"/>
          </a:xfrm>
          <a:prstGeom prst="straightConnector1">
            <a:avLst/>
          </a:prstGeom>
          <a:ln w="25560">
            <a:solidFill>
              <a:srgbClr val="0070c0"/>
            </a:solidFill>
            <a:miter/>
            <a:tailEnd len="med" type="triangle" w="med"/>
          </a:ln>
        </p:spPr>
      </p:cxnSp>
      <p:cxnSp>
        <p:nvCxnSpPr>
          <p:cNvPr id="3709" name="Straight Arrow Connector 40"/>
          <p:cNvCxnSpPr>
            <a:stCxn id="3683" idx="2"/>
          </p:cNvCxnSpPr>
          <p:nvPr/>
        </p:nvCxnSpPr>
        <p:spPr>
          <a:xfrm>
            <a:off x="5333760" y="6073560"/>
            <a:ext cx="1080" cy="175320"/>
          </a:xfrm>
          <a:prstGeom prst="straightConnector1">
            <a:avLst/>
          </a:prstGeom>
          <a:ln w="25560">
            <a:solidFill>
              <a:srgbClr val="0070c0"/>
            </a:solidFill>
            <a:miter/>
            <a:tailEnd len="med" type="triangle" w="med"/>
          </a:ln>
        </p:spPr>
      </p:cxnSp>
      <p:cxnSp>
        <p:nvCxnSpPr>
          <p:cNvPr id="3710" name="Straight Arrow Connector 41"/>
          <p:cNvCxnSpPr>
            <a:stCxn id="3685" idx="2"/>
          </p:cNvCxnSpPr>
          <p:nvPr/>
        </p:nvCxnSpPr>
        <p:spPr>
          <a:xfrm>
            <a:off x="6857640" y="6060600"/>
            <a:ext cx="1080" cy="188280"/>
          </a:xfrm>
          <a:prstGeom prst="straightConnector1">
            <a:avLst/>
          </a:prstGeom>
          <a:ln w="25560">
            <a:solidFill>
              <a:srgbClr val="0070c0"/>
            </a:solidFill>
            <a:miter/>
            <a:tailEnd len="med" type="triangle" w="med"/>
          </a:ln>
        </p:spPr>
      </p:cxnSp>
      <p:cxnSp>
        <p:nvCxnSpPr>
          <p:cNvPr id="3711" name="Straight Arrow Connector 42"/>
          <p:cNvCxnSpPr>
            <a:stCxn id="3684" idx="2"/>
            <a:endCxn id="3707" idx="0"/>
          </p:cNvCxnSpPr>
          <p:nvPr/>
        </p:nvCxnSpPr>
        <p:spPr>
          <a:xfrm>
            <a:off x="8303760" y="6057720"/>
            <a:ext cx="2520" cy="191160"/>
          </a:xfrm>
          <a:prstGeom prst="straightConnector1">
            <a:avLst/>
          </a:prstGeom>
          <a:ln w="25560">
            <a:solidFill>
              <a:srgbClr val="0070c0"/>
            </a:solidFill>
            <a:miter/>
            <a:tailEnd len="med" type="triangle" w="med"/>
          </a:ln>
        </p:spPr>
      </p:cxnSp>
      <p:sp>
        <p:nvSpPr>
          <p:cNvPr id="3712" name="Down Arrow 57"/>
          <p:cNvSpPr/>
          <p:nvPr/>
        </p:nvSpPr>
        <p:spPr>
          <a:xfrm>
            <a:off x="6248520" y="1066680"/>
            <a:ext cx="228600" cy="1067040"/>
          </a:xfrm>
          <a:prstGeom prst="downArrow">
            <a:avLst>
              <a:gd name="adj1" fmla="val 50000"/>
              <a:gd name="adj2" fmla="val 5000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3" name="Rectangle 162"/>
          <p:cNvSpPr/>
          <p:nvPr/>
        </p:nvSpPr>
        <p:spPr>
          <a:xfrm>
            <a:off x="81000" y="4083120"/>
            <a:ext cx="24336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velopmental Spelling Analysis (DSA)  KIDS</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iagnostic)</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c, April) </a:t>
            </a:r>
            <a:endParaRPr b="0" lang="en-US" sz="1300" spc="-1" strike="noStrike">
              <a:solidFill>
                <a:srgbClr val="000000"/>
              </a:solidFill>
              <a:latin typeface="Arial"/>
            </a:endParaRPr>
          </a:p>
        </p:txBody>
      </p:sp>
      <p:cxnSp>
        <p:nvCxnSpPr>
          <p:cNvPr id="3714" name="Straight Arrow Connector 43"/>
          <p:cNvCxnSpPr/>
          <p:nvPr/>
        </p:nvCxnSpPr>
        <p:spPr>
          <a:xfrm flipV="1">
            <a:off x="5925960" y="5637960"/>
            <a:ext cx="386640" cy="1080"/>
          </a:xfrm>
          <a:prstGeom prst="straightConnector1">
            <a:avLst/>
          </a:prstGeom>
          <a:ln w="25560">
            <a:solidFill>
              <a:srgbClr val="0070c0"/>
            </a:solidFill>
            <a:miter/>
            <a:tailEnd len="med" type="triangle" w="med"/>
          </a:ln>
        </p:spPr>
      </p:cxnSp>
      <p:cxnSp>
        <p:nvCxnSpPr>
          <p:cNvPr id="3715" name="Straight Arrow Connector 44"/>
          <p:cNvCxnSpPr/>
          <p:nvPr/>
        </p:nvCxnSpPr>
        <p:spPr>
          <a:xfrm flipV="1">
            <a:off x="4262400" y="5637960"/>
            <a:ext cx="386640" cy="1080"/>
          </a:xfrm>
          <a:prstGeom prst="straightConnector1">
            <a:avLst/>
          </a:prstGeom>
          <a:ln w="25560">
            <a:solidFill>
              <a:srgbClr val="0070c0"/>
            </a:solidFill>
            <a:miter/>
            <a:tailEnd len="med" type="triangle" w="med"/>
          </a:ln>
        </p:spPr>
      </p:cxnSp>
      <p:cxnSp>
        <p:nvCxnSpPr>
          <p:cNvPr id="3716" name="Straight Arrow Connector 46"/>
          <p:cNvCxnSpPr/>
          <p:nvPr/>
        </p:nvCxnSpPr>
        <p:spPr>
          <a:xfrm>
            <a:off x="2320920" y="5638320"/>
            <a:ext cx="651600" cy="1080"/>
          </a:xfrm>
          <a:prstGeom prst="straightConnector1">
            <a:avLst/>
          </a:prstGeom>
          <a:ln w="255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title"/>
          </p:nvPr>
        </p:nvSpPr>
        <p:spPr>
          <a:xfrm>
            <a:off x="504360" y="285480"/>
            <a:ext cx="557388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Reading Model</a:t>
            </a:r>
            <a:endParaRPr b="0" lang="en-US" sz="4400" spc="-1" strike="noStrike">
              <a:solidFill>
                <a:srgbClr val="000000"/>
              </a:solidFill>
              <a:latin typeface="Calibri"/>
            </a:endParaRPr>
          </a:p>
        </p:txBody>
      </p:sp>
      <p:sp>
        <p:nvSpPr>
          <p:cNvPr id="37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7B932-0F16-495B-A16F-0B3D20A350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19" name="Rounded Rectangle 5"/>
          <p:cNvSpPr/>
          <p:nvPr/>
        </p:nvSpPr>
        <p:spPr>
          <a:xfrm>
            <a:off x="228600" y="244332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igh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Rea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WE</a:t>
            </a:r>
            <a:endParaRPr b="0" lang="en-US" sz="1200" spc="-1" strike="noStrike">
              <a:solidFill>
                <a:srgbClr val="000000"/>
              </a:solidFill>
              <a:latin typeface="Arial"/>
            </a:endParaRPr>
          </a:p>
        </p:txBody>
      </p:sp>
      <p:sp>
        <p:nvSpPr>
          <p:cNvPr id="3720" name="Rounded Rectangle 6"/>
          <p:cNvSpPr/>
          <p:nvPr/>
        </p:nvSpPr>
        <p:spPr>
          <a:xfrm>
            <a:off x="228600" y="424656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honological</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Deco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DE</a:t>
            </a:r>
            <a:endParaRPr b="0" lang="en-US" sz="1200" spc="-1" strike="noStrike">
              <a:solidFill>
                <a:srgbClr val="000000"/>
              </a:solidFill>
              <a:latin typeface="Arial"/>
            </a:endParaRPr>
          </a:p>
        </p:txBody>
      </p:sp>
      <p:sp>
        <p:nvSpPr>
          <p:cNvPr id="3721" name="Rounded Rectangle 7"/>
          <p:cNvSpPr/>
          <p:nvPr/>
        </p:nvSpPr>
        <p:spPr>
          <a:xfrm>
            <a:off x="4619520" y="3156120"/>
            <a:ext cx="1771920" cy="1676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Accumaticity</a:t>
            </a:r>
            <a:endParaRPr b="0" lang="en-US" sz="1200" spc="-1" strike="noStrike">
              <a:solidFill>
                <a:srgbClr val="000000"/>
              </a:solidFill>
              <a:latin typeface="Arial"/>
            </a:endParaRPr>
          </a:p>
        </p:txBody>
      </p:sp>
      <p:sp>
        <p:nvSpPr>
          <p:cNvPr id="3722" name="Rounded Rectangle 8"/>
          <p:cNvSpPr/>
          <p:nvPr/>
        </p:nvSpPr>
        <p:spPr>
          <a:xfrm>
            <a:off x="6829560" y="3193920"/>
            <a:ext cx="2114280" cy="1600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Comprehension</a:t>
            </a:r>
            <a:endParaRPr b="0" lang="en-US" sz="1200" spc="-1" strike="noStrike">
              <a:solidFill>
                <a:srgbClr val="000000"/>
              </a:solidFill>
              <a:latin typeface="Arial"/>
            </a:endParaRPr>
          </a:p>
        </p:txBody>
      </p:sp>
      <p:sp>
        <p:nvSpPr>
          <p:cNvPr id="3723" name="Oval 10"/>
          <p:cNvSpPr/>
          <p:nvPr/>
        </p:nvSpPr>
        <p:spPr>
          <a:xfrm>
            <a:off x="3741840" y="906480"/>
            <a:ext cx="171432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Total Words Read</a:t>
            </a:r>
            <a:endParaRPr b="0" lang="en-US" sz="1200" spc="-1" strike="noStrike">
              <a:solidFill>
                <a:srgbClr val="000000"/>
              </a:solidFill>
              <a:latin typeface="Arial"/>
            </a:endParaRPr>
          </a:p>
        </p:txBody>
      </p:sp>
      <p:sp>
        <p:nvSpPr>
          <p:cNvPr id="3724" name="Oval 11"/>
          <p:cNvSpPr/>
          <p:nvPr/>
        </p:nvSpPr>
        <p:spPr>
          <a:xfrm>
            <a:off x="5657760" y="855720"/>
            <a:ext cx="171468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Miscues</a:t>
            </a:r>
            <a:endParaRPr b="0" lang="en-US" sz="1200" spc="-1" strike="noStrike">
              <a:solidFill>
                <a:srgbClr val="000000"/>
              </a:solidFill>
              <a:latin typeface="Arial"/>
            </a:endParaRPr>
          </a:p>
        </p:txBody>
      </p:sp>
      <p:sp>
        <p:nvSpPr>
          <p:cNvPr id="3725" name="Rounded Rectangle 12"/>
          <p:cNvSpPr/>
          <p:nvPr/>
        </p:nvSpPr>
        <p:spPr>
          <a:xfrm>
            <a:off x="2505240" y="3195720"/>
            <a:ext cx="1657080" cy="1752480"/>
          </a:xfrm>
          <a:custGeom>
            <a:avLst/>
            <a:gdLst>
              <a:gd name="textAreaLeft" fmla="*/ 80640 w 1657080"/>
              <a:gd name="textAreaRight" fmla="*/ 1576440 w 1657080"/>
              <a:gd name="textAreaTop" fmla="*/ 80640 h 1752480"/>
              <a:gd name="textAreaBottom" fmla="*/ 1671840 h 1752480"/>
            </a:gdLst>
            <a:ahLst/>
            <a:rect l="textAreaLeft" t="textAreaTop" r="textAreaRight" b="textAreaBottom"/>
            <a:pathLst>
              <a:path w="21600" h="22843">
                <a:moveTo>
                  <a:pt x="3600" y="0"/>
                </a:moveTo>
                <a:arcTo wR="3600" hR="3600" stAng="16200000" swAng="-5400000"/>
                <a:lnTo>
                  <a:pt x="0" y="19243"/>
                </a:lnTo>
                <a:arcTo wR="3600" hR="3600" stAng="10800000" swAng="-5400000"/>
                <a:lnTo>
                  <a:pt x="18000" y="22843"/>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Reading</a:t>
            </a:r>
            <a:endParaRPr b="0" lang="en-US" sz="1200" spc="-1" strike="noStrike">
              <a:solidFill>
                <a:srgbClr val="000000"/>
              </a:solidFill>
              <a:latin typeface="Arial"/>
            </a:endParaRPr>
          </a:p>
        </p:txBody>
      </p:sp>
      <p:cxnSp>
        <p:nvCxnSpPr>
          <p:cNvPr id="3726" name="Straight Arrow Connector 18"/>
          <p:cNvCxnSpPr/>
          <p:nvPr/>
        </p:nvCxnSpPr>
        <p:spPr>
          <a:xfrm>
            <a:off x="4665600" y="2114280"/>
            <a:ext cx="457920" cy="1067400"/>
          </a:xfrm>
          <a:prstGeom prst="straightConnector1">
            <a:avLst/>
          </a:prstGeom>
          <a:ln w="9360">
            <a:solidFill>
              <a:srgbClr val="4a7ebb"/>
            </a:solidFill>
            <a:miter/>
            <a:tailEnd len="med" type="triangle" w="med"/>
          </a:ln>
        </p:spPr>
      </p:cxnSp>
      <p:cxnSp>
        <p:nvCxnSpPr>
          <p:cNvPr id="3727" name="Straight Arrow Connector 20"/>
          <p:cNvCxnSpPr/>
          <p:nvPr/>
        </p:nvCxnSpPr>
        <p:spPr>
          <a:xfrm flipH="1">
            <a:off x="6077880" y="2089080"/>
            <a:ext cx="400680" cy="1067760"/>
          </a:xfrm>
          <a:prstGeom prst="straightConnector1">
            <a:avLst/>
          </a:prstGeom>
          <a:ln w="12600">
            <a:solidFill>
              <a:srgbClr val="4a7ebb"/>
            </a:solidFill>
            <a:miter/>
            <a:tailEnd len="med" type="triangle" w="med"/>
          </a:ln>
        </p:spPr>
      </p:cxnSp>
      <p:sp>
        <p:nvSpPr>
          <p:cNvPr id="3728" name="Right Arrow 24"/>
          <p:cNvSpPr/>
          <p:nvPr/>
        </p:nvSpPr>
        <p:spPr>
          <a:xfrm>
            <a:off x="4152960" y="3994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sp>
        <p:nvSpPr>
          <p:cNvPr id="3729" name="Right Arrow 25"/>
          <p:cNvSpPr/>
          <p:nvPr/>
        </p:nvSpPr>
        <p:spPr>
          <a:xfrm>
            <a:off x="6391440" y="4021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cxnSp>
        <p:nvCxnSpPr>
          <p:cNvPr id="3730" name="Straight Arrow Connector 27"/>
          <p:cNvCxnSpPr>
            <a:stCxn id="3719" idx="3"/>
          </p:cNvCxnSpPr>
          <p:nvPr/>
        </p:nvCxnSpPr>
        <p:spPr>
          <a:xfrm>
            <a:off x="1999800" y="3090600"/>
            <a:ext cx="515160" cy="572040"/>
          </a:xfrm>
          <a:prstGeom prst="straightConnector1">
            <a:avLst/>
          </a:prstGeom>
          <a:ln w="9360">
            <a:solidFill>
              <a:srgbClr val="4a7ebb"/>
            </a:solidFill>
            <a:miter/>
            <a:tailEnd len="med" type="triangle" w="med"/>
          </a:ln>
        </p:spPr>
      </p:cxnSp>
      <p:cxnSp>
        <p:nvCxnSpPr>
          <p:cNvPr id="3731" name="Straight Arrow Connector 29"/>
          <p:cNvCxnSpPr>
            <a:stCxn id="3720" idx="3"/>
          </p:cNvCxnSpPr>
          <p:nvPr/>
        </p:nvCxnSpPr>
        <p:spPr>
          <a:xfrm flipV="1">
            <a:off x="1999800" y="4169520"/>
            <a:ext cx="515160" cy="724680"/>
          </a:xfrm>
          <a:prstGeom prst="straightConnector1">
            <a:avLst/>
          </a:prstGeom>
          <a:ln w="9360">
            <a:solidFill>
              <a:srgbClr val="4a7ebb"/>
            </a:solidFill>
            <a:miter/>
            <a:tailEnd len="med" type="triangle" w="med"/>
          </a:ln>
        </p:spPr>
      </p:cxnSp>
      <p:sp>
        <p:nvSpPr>
          <p:cNvPr id="3732" name="Rectangle 1"/>
          <p:cNvSpPr/>
          <p:nvPr/>
        </p:nvSpPr>
        <p:spPr>
          <a:xfrm>
            <a:off x="349200" y="109548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st of Word Reading Effici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WRE)</a:t>
            </a:r>
            <a:endParaRPr b="0" lang="en-US" sz="1200" spc="-1" strike="noStrike">
              <a:solidFill>
                <a:srgbClr val="000000"/>
              </a:solidFill>
              <a:latin typeface="Arial"/>
            </a:endParaRPr>
          </a:p>
        </p:txBody>
      </p:sp>
      <p:sp>
        <p:nvSpPr>
          <p:cNvPr id="3733" name="Rectangle 17"/>
          <p:cNvSpPr/>
          <p:nvPr/>
        </p:nvSpPr>
        <p:spPr>
          <a:xfrm>
            <a:off x="4603680" y="5327640"/>
            <a:ext cx="1700280" cy="9795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SS Leveled Reading Passages by Grade</a:t>
            </a:r>
            <a:endParaRPr b="0" lang="en-US" sz="1200" spc="-1" strike="noStrike">
              <a:solidFill>
                <a:srgbClr val="000000"/>
              </a:solidFill>
              <a:latin typeface="Arial"/>
            </a:endParaRPr>
          </a:p>
        </p:txBody>
      </p:sp>
      <p:sp>
        <p:nvSpPr>
          <p:cNvPr id="3734" name="Rectangle 19"/>
          <p:cNvSpPr/>
          <p:nvPr/>
        </p:nvSpPr>
        <p:spPr>
          <a:xfrm>
            <a:off x="7004160" y="531180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 From the Passages</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5" name="Diagram 4" descr=""/>
          <p:cNvPicPr/>
          <p:nvPr/>
        </p:nvPicPr>
        <p:blipFill>
          <a:blip r:embed="rId1"/>
          <a:stretch/>
        </p:blipFill>
        <p:spPr>
          <a:xfrm>
            <a:off x="96840" y="1450800"/>
            <a:ext cx="8961480" cy="5059440"/>
          </a:xfrm>
          <a:prstGeom prst="rect">
            <a:avLst/>
          </a:prstGeom>
          <a:ln w="0">
            <a:noFill/>
          </a:ln>
        </p:spPr>
      </p:pic>
      <p:sp>
        <p:nvSpPr>
          <p:cNvPr id="3736" name="Text Box 2"/>
          <p:cNvSpPr/>
          <p:nvPr/>
        </p:nvSpPr>
        <p:spPr>
          <a:xfrm>
            <a:off x="4343400" y="3075120"/>
            <a:ext cx="1981080" cy="22190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SimSun"/>
              </a:rPr>
              <a:t>Comprehensive Reading Instruction:</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SimSun"/>
              </a:rPr>
              <a:t>Word Work</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Fluency Practice</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Comprehension</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Refining Reading (R²) Time</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
        <p:nvSpPr>
          <p:cNvPr id="3737" name="Rectangle 2"/>
          <p:cNvSpPr/>
          <p:nvPr/>
        </p:nvSpPr>
        <p:spPr>
          <a:xfrm>
            <a:off x="152280" y="152280"/>
            <a:ext cx="8839440" cy="1068480"/>
          </a:xfrm>
          <a:prstGeom prst="rect">
            <a:avLst/>
          </a:prstGeom>
          <a:solidFill>
            <a:srgbClr val="4bacc6"/>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Teaching and Learning Cycle</a:t>
            </a:r>
            <a:endParaRPr b="0" lang="en-US" sz="3000" spc="-1" strike="noStrike">
              <a:solidFill>
                <a:srgbClr val="000000"/>
              </a:solidFill>
              <a:latin typeface="Arial"/>
            </a:endParaRPr>
          </a:p>
        </p:txBody>
      </p:sp>
      <p:sp>
        <p:nvSpPr>
          <p:cNvPr id="3738" name="Text Box 2"/>
          <p:cNvSpPr/>
          <p:nvPr/>
        </p:nvSpPr>
        <p:spPr>
          <a:xfrm>
            <a:off x="2286000" y="3343320"/>
            <a:ext cx="1890720" cy="16826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BLP Reading Instruction Delivery Model</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PlaceHolder 1"/>
          <p:cNvSpPr>
            <a:spLocks noGrp="1"/>
          </p:cNvSpPr>
          <p:nvPr>
            <p:ph type="title"/>
          </p:nvPr>
        </p:nvSpPr>
        <p:spPr>
          <a:xfrm>
            <a:off x="133200" y="468000"/>
            <a:ext cx="419112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 #1</a:t>
            </a:r>
            <a:endParaRPr b="0" lang="en-US" sz="4400" spc="-1" strike="noStrike">
              <a:solidFill>
                <a:srgbClr val="000000"/>
              </a:solidFill>
              <a:latin typeface="Calibri"/>
            </a:endParaRPr>
          </a:p>
        </p:txBody>
      </p:sp>
      <p:sp>
        <p:nvSpPr>
          <p:cNvPr id="3740" name="Rectangle 1"/>
          <p:cNvSpPr/>
          <p:nvPr/>
        </p:nvSpPr>
        <p:spPr>
          <a:xfrm>
            <a:off x="114480" y="5235480"/>
            <a:ext cx="9029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7030a0"/>
                </a:solidFill>
                <a:latin typeface="Arial"/>
              </a:rPr>
              <a:t>Guided Reading with a focus on Individual Prompts</a:t>
            </a:r>
            <a:endParaRPr b="0" lang="en-US" sz="4000" spc="-1" strike="noStrike">
              <a:solidFill>
                <a:srgbClr val="000000"/>
              </a:solidFill>
              <a:latin typeface="Arial"/>
            </a:endParaRPr>
          </a:p>
        </p:txBody>
      </p:sp>
      <p:pic>
        <p:nvPicPr>
          <p:cNvPr id="3741" name="Picture 2" descr=""/>
          <p:cNvPicPr/>
          <p:nvPr/>
        </p:nvPicPr>
        <p:blipFill>
          <a:blip r:embed="rId1"/>
          <a:stretch/>
        </p:blipFill>
        <p:spPr>
          <a:xfrm>
            <a:off x="4267080" y="46836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uided Reading and Comprehension Interview</a:t>
            </a:r>
            <a:endParaRPr b="0" lang="en-US" sz="4400" spc="-1" strike="noStrike">
              <a:solidFill>
                <a:srgbClr val="000000"/>
              </a:solidFill>
              <a:latin typeface="Calibri"/>
            </a:endParaRPr>
          </a:p>
        </p:txBody>
      </p:sp>
      <p:sp>
        <p:nvSpPr>
          <p:cNvPr id="3743" name=""/>
          <p:cNvSpPr txBox="1"/>
          <p:nvPr/>
        </p:nvSpPr>
        <p:spPr>
          <a:xfrm>
            <a:off x="480600" y="190512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Determine which comprehension strategies to teach in a guided reading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Profile for Comprehension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analy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title"/>
          </p:nvPr>
        </p:nvSpPr>
        <p:spPr>
          <a:xfrm>
            <a:off x="152280" y="-74880"/>
            <a:ext cx="548640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700"/>
                </a:solidFill>
                <a:latin typeface="Arial"/>
              </a:rPr>
              <a:t>Class Agenda</a:t>
            </a:r>
            <a:endParaRPr b="0" lang="en-US" sz="4000" spc="-1" strike="noStrike">
              <a:solidFill>
                <a:srgbClr val="000000"/>
              </a:solidFill>
              <a:latin typeface="Arial"/>
            </a:endParaRPr>
          </a:p>
        </p:txBody>
      </p:sp>
      <p:sp>
        <p:nvSpPr>
          <p:cNvPr id="3609" name=""/>
          <p:cNvSpPr txBox="1"/>
          <p:nvPr/>
        </p:nvSpPr>
        <p:spPr>
          <a:xfrm>
            <a:off x="331920" y="1294920"/>
            <a:ext cx="8431200" cy="5257800"/>
          </a:xfrm>
          <a:prstGeom prst="rect">
            <a:avLst/>
          </a:prstGeom>
          <a:noFill/>
          <a:ln w="0">
            <a:noFill/>
          </a:ln>
        </p:spPr>
        <p:txBody>
          <a:bodyPr lIns="50760" rIns="50760" tIns="50760" bIns="50760" anchor="t">
            <a:normAutofit/>
          </a:bodyPr>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elcome</a:t>
            </a:r>
            <a:r>
              <a:rPr b="0" lang="en-US" sz="2800" spc="-1" strike="noStrike">
                <a:solidFill>
                  <a:srgbClr val="000000"/>
                </a:solidFill>
                <a:latin typeface="Arial"/>
              </a:rPr>
              <a:t>!</a:t>
            </a:r>
            <a:endParaRPr b="0" lang="en-US" sz="2800" spc="-1" strike="noStrike">
              <a:solidFill>
                <a:srgbClr val="ffffff"/>
              </a:solidFill>
              <a:latin typeface="Arial"/>
            </a:endParaRPr>
          </a:p>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ew of the Literacy Project Essentials</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CAP #1 Q &amp; A</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ded Reading and the Comprehension Interview</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Break</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roduction to Language and Literacy</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Diagnostic Reading Case Study</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ap up and adjourn!</a:t>
            </a:r>
            <a:endParaRPr b="0" lang="en-US" sz="2800" spc="-1" strike="noStrike">
              <a:solidFill>
                <a:srgbClr val="ffffff"/>
              </a:solidFill>
              <a:latin typeface="Arial"/>
            </a:endParaRPr>
          </a:p>
        </p:txBody>
      </p:sp>
      <p:pic>
        <p:nvPicPr>
          <p:cNvPr id="3610" name="Picture 3" descr="asset.jpg"/>
          <p:cNvPicPr/>
          <p:nvPr/>
        </p:nvPicPr>
        <p:blipFill>
          <a:blip r:embed="rId1"/>
          <a:stretch/>
        </p:blipFill>
        <p:spPr>
          <a:xfrm>
            <a:off x="6324480" y="152280"/>
            <a:ext cx="1482840" cy="14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Pick it! Post it!</a:t>
            </a:r>
            <a:endParaRPr b="0" lang="en-US" sz="4400" spc="-1" strike="noStrike">
              <a:solidFill>
                <a:srgbClr val="000000"/>
              </a:solidFill>
              <a:latin typeface="Calibri"/>
            </a:endParaRPr>
          </a:p>
        </p:txBody>
      </p:sp>
      <p:sp>
        <p:nvSpPr>
          <p:cNvPr id="3745" name=""/>
          <p:cNvSpPr txBox="1"/>
          <p:nvPr/>
        </p:nvSpPr>
        <p:spPr>
          <a:xfrm>
            <a:off x="446040" y="1827360"/>
            <a:ext cx="8229600" cy="487656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Look back at your notes from the reading </a:t>
            </a:r>
            <a:r>
              <a:rPr b="0" i="1" lang="en-US" sz="3600" spc="-1" strike="noStrike">
                <a:solidFill>
                  <a:srgbClr val="0070c0"/>
                </a:solidFill>
                <a:latin typeface="Calibri"/>
              </a:rPr>
              <a:t>Learning to Talk and Listen </a:t>
            </a:r>
            <a:r>
              <a:rPr b="0" lang="en-US" sz="3200" spc="-1" strike="noStrike">
                <a:solidFill>
                  <a:srgbClr val="0070c0"/>
                </a:solidFill>
                <a:latin typeface="Calibri"/>
              </a:rPr>
              <a:t>.</a:t>
            </a:r>
            <a:endParaRPr b="0" lang="en-US" sz="3200" spc="-1" strike="noStrike">
              <a:solidFill>
                <a:srgbClr val="000000"/>
              </a:solidFill>
              <a:latin typeface="Calibri"/>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Record 4 ideas that fit any (or all) of the categories: </a:t>
            </a:r>
            <a:r>
              <a:rPr b="0" lang="en-US" sz="3600" spc="-1" strike="noStrike">
                <a:solidFill>
                  <a:srgbClr val="000000"/>
                </a:solidFill>
                <a:latin typeface="Calibri"/>
              </a:rPr>
              <a:t>facts, feelings questions, conne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Place on appropriate chart</a:t>
            </a:r>
            <a:endParaRPr b="0" lang="en-US" sz="3600" spc="-1" strike="noStrike">
              <a:solidFill>
                <a:srgbClr val="000000"/>
              </a:solidFill>
              <a:latin typeface="Calibri"/>
            </a:endParaRPr>
          </a:p>
        </p:txBody>
      </p:sp>
      <p:pic>
        <p:nvPicPr>
          <p:cNvPr id="3746" name="Picture 3" descr=""/>
          <p:cNvPicPr/>
          <p:nvPr/>
        </p:nvPicPr>
        <p:blipFill>
          <a:blip r:embed="rId1"/>
          <a:stretch/>
        </p:blipFill>
        <p:spPr>
          <a:xfrm>
            <a:off x="7075440" y="277920"/>
            <a:ext cx="1600200" cy="1676160"/>
          </a:xfrm>
          <a:prstGeom prst="rect">
            <a:avLst/>
          </a:prstGeom>
          <a:ln w="0">
            <a:noFill/>
          </a:ln>
        </p:spPr>
      </p:pic>
      <p:pic>
        <p:nvPicPr>
          <p:cNvPr id="3747" name="Picture 4" descr=""/>
          <p:cNvPicPr/>
          <p:nvPr/>
        </p:nvPicPr>
        <p:blipFill>
          <a:blip r:embed="rId2"/>
          <a:stretch/>
        </p:blipFill>
        <p:spPr>
          <a:xfrm>
            <a:off x="190440" y="290520"/>
            <a:ext cx="16002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Language and Literacy</a:t>
            </a:r>
            <a:endParaRPr b="0" lang="en-US" sz="4400" spc="-1" strike="noStrike">
              <a:solidFill>
                <a:srgbClr val="000000"/>
              </a:solidFill>
              <a:latin typeface="Calibri"/>
            </a:endParaRPr>
          </a:p>
        </p:txBody>
      </p:sp>
      <p:sp>
        <p:nvSpPr>
          <p:cNvPr id="3749" name=""/>
          <p:cNvSpPr txBox="1"/>
          <p:nvPr/>
        </p:nvSpPr>
        <p:spPr>
          <a:xfrm>
            <a:off x="228240" y="1600200"/>
            <a:ext cx="84582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Language Develop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ing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skills – for talking and listen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 skills – for talking, listening and convers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0" name="PlaceHolder 1"/>
          <p:cNvSpPr>
            <a:spLocks noGrp="1"/>
          </p:cNvSpPr>
          <p:nvPr>
            <p:ph type="title"/>
          </p:nvPr>
        </p:nvSpPr>
        <p:spPr>
          <a:xfrm>
            <a:off x="286920" y="12600"/>
            <a:ext cx="84582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51" name=""/>
          <p:cNvSpPr txBox="1"/>
          <p:nvPr/>
        </p:nvSpPr>
        <p:spPr>
          <a:xfrm>
            <a:off x="286920" y="1049040"/>
            <a:ext cx="8628120" cy="5808600"/>
          </a:xfrm>
          <a:prstGeom prst="rect">
            <a:avLst/>
          </a:prstGeom>
          <a:noFill/>
          <a:ln w="0">
            <a:noFill/>
          </a:ln>
        </p:spPr>
        <p:txBody>
          <a:bodyPr anchor="t">
            <a:normAutofit fontScale="95000"/>
          </a:bodyPr>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Outcomes:</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ed process for diagnosing and helping our most struggling readers (ie. eliminating instruction as a factor) –  Multi-Tiered System of Support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ing the role of assessment in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on of an targeted intervention plan with progress monitoring </a:t>
            </a:r>
            <a:endParaRPr b="0" lang="en-US" sz="3600" spc="-1" strike="noStrike">
              <a:solidFill>
                <a:srgbClr val="000000"/>
              </a:solidFill>
              <a:latin typeface="Calibri"/>
            </a:endParaRPr>
          </a:p>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751">
                                            <p:txEl>
                                              <p:pRg st="0" end="0"/>
                                            </p:txEl>
                                          </p:spTgt>
                                        </p:tgtEl>
                                        <p:attrNameLst>
                                          <p:attrName>style.visibility</p:attrName>
                                        </p:attrNameLst>
                                      </p:cBhvr>
                                      <p:to>
                                        <p:strVal val="visible"/>
                                      </p:to>
                                    </p:set>
                                    <p:anim calcmode="lin" valueType="num">
                                      <p:cBhvr additive="base">
                                        <p:cTn id="107" dur="500" fill="hold"/>
                                        <p:tgtEl>
                                          <p:spTgt spid="375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751">
                                            <p:txEl>
                                              <p:pRg st="1" end="1"/>
                                            </p:txEl>
                                          </p:spTgt>
                                        </p:tgtEl>
                                        <p:attrNameLst>
                                          <p:attrName>style.visibility</p:attrName>
                                        </p:attrNameLst>
                                      </p:cBhvr>
                                      <p:to>
                                        <p:strVal val="visible"/>
                                      </p:to>
                                    </p:set>
                                    <p:anim calcmode="lin" valueType="num">
                                      <p:cBhvr additive="base">
                                        <p:cTn id="113" dur="500" fill="hold"/>
                                        <p:tgtEl>
                                          <p:spTgt spid="375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751">
                                            <p:txEl>
                                              <p:pRg st="2" end="2"/>
                                            </p:txEl>
                                          </p:spTgt>
                                        </p:tgtEl>
                                        <p:attrNameLst>
                                          <p:attrName>style.visibility</p:attrName>
                                        </p:attrNameLst>
                                      </p:cBhvr>
                                      <p:to>
                                        <p:strVal val="visible"/>
                                      </p:to>
                                    </p:set>
                                    <p:anim calcmode="lin" valueType="num">
                                      <p:cBhvr additive="base">
                                        <p:cTn id="119" dur="500" fill="hold"/>
                                        <p:tgtEl>
                                          <p:spTgt spid="375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7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751">
                                            <p:txEl>
                                              <p:pRg st="3" end="3"/>
                                            </p:txEl>
                                          </p:spTgt>
                                        </p:tgtEl>
                                        <p:attrNameLst>
                                          <p:attrName>style.visibility</p:attrName>
                                        </p:attrNameLst>
                                      </p:cBhvr>
                                      <p:to>
                                        <p:strVal val="visible"/>
                                      </p:to>
                                    </p:set>
                                    <p:anim calcmode="lin" valueType="num">
                                      <p:cBhvr additive="base">
                                        <p:cTn id="125" dur="500" fill="hold"/>
                                        <p:tgtEl>
                                          <p:spTgt spid="375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7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751">
                                            <p:txEl>
                                              <p:pRg st="4" end="4"/>
                                            </p:txEl>
                                          </p:spTgt>
                                        </p:tgtEl>
                                        <p:attrNameLst>
                                          <p:attrName>style.visibility</p:attrName>
                                        </p:attrNameLst>
                                      </p:cBhvr>
                                      <p:to>
                                        <p:strVal val="visible"/>
                                      </p:to>
                                    </p:set>
                                    <p:anim calcmode="lin" valueType="num">
                                      <p:cBhvr additive="base">
                                        <p:cTn id="131" dur="500" fill="hold"/>
                                        <p:tgtEl>
                                          <p:spTgt spid="375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title"/>
          </p:nvPr>
        </p:nvSpPr>
        <p:spPr>
          <a:xfrm>
            <a:off x="439200" y="2880"/>
            <a:ext cx="8458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53" name=""/>
          <p:cNvSpPr txBox="1"/>
          <p:nvPr/>
        </p:nvSpPr>
        <p:spPr>
          <a:xfrm>
            <a:off x="2057400" y="1218960"/>
            <a:ext cx="4952880" cy="609480"/>
          </a:xfrm>
          <a:prstGeom prst="rect">
            <a:avLst/>
          </a:prstGeom>
          <a:noFill/>
          <a:ln w="0">
            <a:noFill/>
          </a:ln>
        </p:spPr>
        <p:txBody>
          <a:bodyPr anchor="t">
            <a:normAutofit/>
          </a:bodyPr>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mplementing the Cycle of Inquiry</a:t>
            </a: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3754" name="Diagram 4" descr=""/>
          <p:cNvPicPr/>
          <p:nvPr/>
        </p:nvPicPr>
        <p:blipFill>
          <a:blip r:embed="rId1"/>
          <a:stretch/>
        </p:blipFill>
        <p:spPr>
          <a:xfrm>
            <a:off x="23760" y="1981080"/>
            <a:ext cx="4627440" cy="4621320"/>
          </a:xfrm>
          <a:prstGeom prst="rect">
            <a:avLst/>
          </a:prstGeom>
          <a:ln w="0">
            <a:noFill/>
          </a:ln>
        </p:spPr>
      </p:pic>
      <p:pic>
        <p:nvPicPr>
          <p:cNvPr id="3755" name="Diagram 6" descr=""/>
          <p:cNvPicPr/>
          <p:nvPr/>
        </p:nvPicPr>
        <p:blipFill>
          <a:blip r:embed="rId2"/>
          <a:stretch/>
        </p:blipFill>
        <p:spPr>
          <a:xfrm>
            <a:off x="4791240" y="1981080"/>
            <a:ext cx="4365360" cy="4621320"/>
          </a:xfrm>
          <a:prstGeom prst="rect">
            <a:avLst/>
          </a:prstGeom>
          <a:ln w="0">
            <a:noFill/>
          </a:ln>
        </p:spPr>
      </p:pic>
      <p:sp>
        <p:nvSpPr>
          <p:cNvPr id="3756" name="TextBox 1"/>
          <p:cNvSpPr/>
          <p:nvPr/>
        </p:nvSpPr>
        <p:spPr>
          <a:xfrm>
            <a:off x="7391520" y="4343400"/>
            <a:ext cx="1280880" cy="4590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does the research sa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title"/>
          </p:nvPr>
        </p:nvSpPr>
        <p:spPr>
          <a:xfrm>
            <a:off x="286920" y="152280"/>
            <a:ext cx="84582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br>
              <a:rPr sz="4400"/>
            </a:br>
            <a:r>
              <a:rPr b="0" lang="en-US" sz="3500" spc="-1" strike="noStrike">
                <a:solidFill>
                  <a:srgbClr val="000000"/>
                </a:solidFill>
                <a:latin typeface="Calibri"/>
              </a:rPr>
              <a:t>Multi-Tier System of Support in Reading Instruction Implementation Steps</a:t>
            </a:r>
            <a:endParaRPr b="0" lang="en-US" sz="3500" spc="-1" strike="noStrike">
              <a:solidFill>
                <a:srgbClr val="000000"/>
              </a:solidFill>
              <a:latin typeface="Calibri"/>
            </a:endParaRPr>
          </a:p>
        </p:txBody>
      </p:sp>
      <p:sp>
        <p:nvSpPr>
          <p:cNvPr id="3758" name=""/>
          <p:cNvSpPr txBox="1"/>
          <p:nvPr/>
        </p:nvSpPr>
        <p:spPr>
          <a:xfrm>
            <a:off x="439200" y="2133360"/>
            <a:ext cx="8153640" cy="4724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Administer Universal Screeners – Identify a potential Tier 2 or 3 Learn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Administer Diagnostic Assessment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Develop an Intervention Plan, Implement over the Yea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Progress Monitoring and 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758">
                                            <p:txEl>
                                              <p:pRg st="0" end="0"/>
                                            </p:txEl>
                                          </p:spTgt>
                                        </p:tgtEl>
                                        <p:attrNameLst>
                                          <p:attrName>style.visibility</p:attrName>
                                        </p:attrNameLst>
                                      </p:cBhvr>
                                      <p:to>
                                        <p:strVal val="visible"/>
                                      </p:to>
                                    </p:set>
                                    <p:anim calcmode="lin" valueType="num">
                                      <p:cBhvr additive="base">
                                        <p:cTn id="139" dur="500" fill="hold"/>
                                        <p:tgtEl>
                                          <p:spTgt spid="375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7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758">
                                            <p:txEl>
                                              <p:pRg st="2" end="2"/>
                                            </p:txEl>
                                          </p:spTgt>
                                        </p:tgtEl>
                                        <p:attrNameLst>
                                          <p:attrName>style.visibility</p:attrName>
                                        </p:attrNameLst>
                                      </p:cBhvr>
                                      <p:to>
                                        <p:strVal val="visible"/>
                                      </p:to>
                                    </p:set>
                                    <p:anim calcmode="lin" valueType="num">
                                      <p:cBhvr additive="base">
                                        <p:cTn id="145" dur="500" fill="hold"/>
                                        <p:tgtEl>
                                          <p:spTgt spid="375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7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758">
                                            <p:txEl>
                                              <p:pRg st="4" end="4"/>
                                            </p:txEl>
                                          </p:spTgt>
                                        </p:tgtEl>
                                        <p:attrNameLst>
                                          <p:attrName>style.visibility</p:attrName>
                                        </p:attrNameLst>
                                      </p:cBhvr>
                                      <p:to>
                                        <p:strVal val="visible"/>
                                      </p:to>
                                    </p:set>
                                    <p:anim calcmode="lin" valueType="num">
                                      <p:cBhvr additive="base">
                                        <p:cTn id="151" dur="500" fill="hold"/>
                                        <p:tgtEl>
                                          <p:spTgt spid="375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7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758">
                                            <p:txEl>
                                              <p:pRg st="6" end="6"/>
                                            </p:txEl>
                                          </p:spTgt>
                                        </p:tgtEl>
                                        <p:attrNameLst>
                                          <p:attrName>style.visibility</p:attrName>
                                        </p:attrNameLst>
                                      </p:cBhvr>
                                      <p:to>
                                        <p:strVal val="visible"/>
                                      </p:to>
                                    </p:set>
                                    <p:anim calcmode="lin" valueType="num">
                                      <p:cBhvr additive="base">
                                        <p:cTn id="157" dur="500" fill="hold"/>
                                        <p:tgtEl>
                                          <p:spTgt spid="3758">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7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title"/>
          </p:nvPr>
        </p:nvSpPr>
        <p:spPr>
          <a:xfrm>
            <a:off x="45684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0" name=""/>
          <p:cNvSpPr txBox="1"/>
          <p:nvPr/>
        </p:nvSpPr>
        <p:spPr>
          <a:xfrm>
            <a:off x="151920" y="1980720"/>
            <a:ext cx="8458200" cy="4489560"/>
          </a:xfrm>
          <a:prstGeom prst="rect">
            <a:avLst/>
          </a:prstGeom>
          <a:noFill/>
          <a:ln w="0">
            <a:noFill/>
          </a:ln>
        </p:spPr>
        <p:txBody>
          <a:bodyPr anchor="t">
            <a:normAutofit/>
          </a:bodyPr>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1: Administer Universal Screeners – Identify a potential Tier 2 or 3 Learner</a:t>
            </a:r>
            <a:r>
              <a:rPr b="0" lang="en-US" sz="3600" spc="-1" strike="noStrike">
                <a:solidFill>
                  <a:srgbClr val="000000"/>
                </a:solidFill>
                <a:latin typeface="Calibri"/>
              </a:rPr>
              <a:t>	</a:t>
            </a:r>
            <a:endParaRPr b="0" lang="en-US" sz="3600" spc="-1" strike="noStrike">
              <a:solidFill>
                <a:srgbClr val="000000"/>
              </a:solidFill>
              <a:latin typeface="Calibri"/>
            </a:endParaRPr>
          </a:p>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8580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d on the Universal Screeners, who is a potential Tier 2 or 3 learner in reading instruction? Cross-check between the TOWRE, CCSS Fluency Passages (Accumaticity), DSA Scre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0">
                                            <p:txEl>
                                              <p:pRg st="0" end="0"/>
                                            </p:txEl>
                                          </p:spTgt>
                                        </p:tgtEl>
                                        <p:attrNameLst>
                                          <p:attrName>style.visibility</p:attrName>
                                        </p:attrNameLst>
                                      </p:cBhvr>
                                      <p:to>
                                        <p:strVal val="visible"/>
                                      </p:to>
                                    </p:set>
                                    <p:anim calcmode="lin" valueType="num">
                                      <p:cBhvr additive="base">
                                        <p:cTn id="165" dur="500" fill="hold"/>
                                        <p:tgtEl>
                                          <p:spTgt spid="3760">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0">
                                            <p:txEl>
                                              <p:pRg st="2" end="2"/>
                                            </p:txEl>
                                          </p:spTgt>
                                        </p:tgtEl>
                                        <p:attrNameLst>
                                          <p:attrName>style.visibility</p:attrName>
                                        </p:attrNameLst>
                                      </p:cBhvr>
                                      <p:to>
                                        <p:strVal val="visible"/>
                                      </p:to>
                                    </p:set>
                                    <p:anim calcmode="lin" valueType="num">
                                      <p:cBhvr additive="base">
                                        <p:cTn id="171" dur="500" fill="hold"/>
                                        <p:tgtEl>
                                          <p:spTgt spid="3760">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456840" y="2844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2" name=""/>
          <p:cNvSpPr txBox="1"/>
          <p:nvPr/>
        </p:nvSpPr>
        <p:spPr>
          <a:xfrm>
            <a:off x="228240" y="1378080"/>
            <a:ext cx="8915400" cy="761760"/>
          </a:xfrm>
          <a:prstGeom prst="rect">
            <a:avLst/>
          </a:prstGeom>
          <a:noFill/>
          <a:ln w="0">
            <a:noFill/>
          </a:ln>
        </p:spPr>
        <p:txBody>
          <a:bodyPr anchor="t">
            <a:normAutofit fontScale="35000"/>
          </a:bodyPr>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2: Administer Diagnostic Assessment</a:t>
            </a: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3763" name="Picture 1" descr=""/>
          <p:cNvPicPr/>
          <p:nvPr/>
        </p:nvPicPr>
        <p:blipFill>
          <a:blip r:embed="rId1"/>
          <a:stretch/>
        </p:blipFill>
        <p:spPr>
          <a:xfrm>
            <a:off x="762120" y="2286000"/>
            <a:ext cx="2984400" cy="3124080"/>
          </a:xfrm>
          <a:prstGeom prst="rect">
            <a:avLst/>
          </a:prstGeom>
          <a:ln w="0">
            <a:noFill/>
          </a:ln>
        </p:spPr>
      </p:pic>
      <p:pic>
        <p:nvPicPr>
          <p:cNvPr id="3764" name="Picture 3" descr=""/>
          <p:cNvPicPr/>
          <p:nvPr/>
        </p:nvPicPr>
        <p:blipFill>
          <a:blip r:embed="rId2"/>
          <a:stretch/>
        </p:blipFill>
        <p:spPr>
          <a:xfrm>
            <a:off x="5105520" y="2286000"/>
            <a:ext cx="2984400" cy="3152880"/>
          </a:xfrm>
          <a:prstGeom prst="rect">
            <a:avLst/>
          </a:prstGeom>
          <a:ln w="0">
            <a:noFill/>
          </a:ln>
        </p:spPr>
      </p:pic>
      <p:sp>
        <p:nvSpPr>
          <p:cNvPr id="3765" name="Content Placeholder 2"/>
          <p:cNvSpPr/>
          <p:nvPr/>
        </p:nvSpPr>
        <p:spPr>
          <a:xfrm>
            <a:off x="457200" y="6095880"/>
            <a:ext cx="7315200" cy="762120"/>
          </a:xfrm>
          <a:prstGeom prst="rect">
            <a:avLst/>
          </a:prstGeom>
          <a:noFill/>
          <a:ln w="0">
            <a:noFill/>
          </a:ln>
        </p:spPr>
        <p:style>
          <a:lnRef idx="0"/>
          <a:fillRef idx="0"/>
          <a:effectRef idx="0"/>
          <a:fontRef idx="minor"/>
        </p:style>
        <p:txBody>
          <a:bodyPr lIns="90000" rIns="90000" tIns="46800" bIns="46800" anchor="t">
            <a:normAutofit fontScale="35000"/>
          </a:bodyPr>
          <a:p>
            <a:pPr marL="239760" indent="-19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r>
              <a:rPr b="0" lang="en-US" sz="3600" spc="-1" strike="noStrike">
                <a:solidFill>
                  <a:srgbClr val="000000"/>
                </a:solidFill>
                <a:latin typeface="Calibri"/>
                <a:ea typeface="Arial"/>
              </a:rPr>
              <a:t>**</a:t>
            </a:r>
            <a:r>
              <a:rPr b="0" lang="en-US" sz="2000" spc="-1" strike="noStrike">
                <a:solidFill>
                  <a:srgbClr val="000000"/>
                </a:solidFill>
                <a:latin typeface="Calibri"/>
                <a:ea typeface="Arial"/>
              </a:rPr>
              <a:t>Refer to the Training PPTs for each Diagnostic Assessment</a:t>
            </a:r>
            <a:endParaRPr b="0" lang="en-US" sz="20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762">
                                            <p:txEl>
                                              <p:pRg st="0" end="0"/>
                                            </p:txEl>
                                          </p:spTgt>
                                        </p:tgtEl>
                                        <p:attrNameLst>
                                          <p:attrName>style.visibility</p:attrName>
                                        </p:attrNameLst>
                                      </p:cBhvr>
                                      <p:to>
                                        <p:strVal val="visible"/>
                                      </p:to>
                                    </p:set>
                                    <p:anim calcmode="lin" valueType="num">
                                      <p:cBhvr additive="base">
                                        <p:cTn id="179" dur="500" fill="hold"/>
                                        <p:tgtEl>
                                          <p:spTgt spid="3762">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7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762">
                                            <p:txEl>
                                              <p:pRg st="2" end="2"/>
                                            </p:txEl>
                                          </p:spTgt>
                                        </p:tgtEl>
                                        <p:attrNameLst>
                                          <p:attrName>style.visibility</p:attrName>
                                        </p:attrNameLst>
                                      </p:cBhvr>
                                      <p:to>
                                        <p:strVal val="visible"/>
                                      </p:to>
                                    </p:set>
                                    <p:anim calcmode="lin" valueType="num">
                                      <p:cBhvr additive="base">
                                        <p:cTn id="185" dur="500" fill="hold"/>
                                        <p:tgtEl>
                                          <p:spTgt spid="3762">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7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765">
                                            <p:txEl>
                                              <p:pRg st="0" end="0"/>
                                            </p:txEl>
                                          </p:spTgt>
                                        </p:tgtEl>
                                        <p:attrNameLst>
                                          <p:attrName>style.visibility</p:attrName>
                                        </p:attrNameLst>
                                      </p:cBhvr>
                                      <p:to>
                                        <p:strVal val="visible"/>
                                      </p:to>
                                    </p:set>
                                    <p:anim calcmode="lin" valueType="num">
                                      <p:cBhvr additive="base">
                                        <p:cTn id="191" dur="500" fill="hold"/>
                                        <p:tgtEl>
                                          <p:spTgt spid="3765">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765">
                                            <p:txEl>
                                              <p:pRg st="2" end="2"/>
                                            </p:txEl>
                                          </p:spTgt>
                                        </p:tgtEl>
                                        <p:attrNameLst>
                                          <p:attrName>style.visibility</p:attrName>
                                        </p:attrNameLst>
                                      </p:cBhvr>
                                      <p:to>
                                        <p:strVal val="visible"/>
                                      </p:to>
                                    </p:set>
                                    <p:anim calcmode="lin" valueType="num">
                                      <p:cBhvr additive="base">
                                        <p:cTn id="197" dur="500" fill="hold"/>
                                        <p:tgtEl>
                                          <p:spTgt spid="3765">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7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6"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7" name=""/>
          <p:cNvSpPr txBox="1"/>
          <p:nvPr/>
        </p:nvSpPr>
        <p:spPr>
          <a:xfrm>
            <a:off x="304560" y="1294920"/>
            <a:ext cx="8458200" cy="5334120"/>
          </a:xfrm>
          <a:prstGeom prst="rect">
            <a:avLst/>
          </a:prstGeom>
          <a:noFill/>
          <a:ln w="0">
            <a:noFill/>
          </a:ln>
        </p:spPr>
        <p:txBody>
          <a:bodyPr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Times New Roman"/>
              </a:rPr>
              <a:t>Step 3: Develop an Intervention Plan for an Identified Learner and Implement the Plan over the course of the Spring Semester</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a.</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Analyze the data from the Universal Screeners and Diagnostic Assessments</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b.   Based on the data, determine </a:t>
            </a:r>
            <a:r>
              <a:rPr b="1" i="1" lang="en-US" sz="2300" spc="-1" strike="noStrike">
                <a:solidFill>
                  <a:srgbClr val="000000"/>
                </a:solidFill>
                <a:latin typeface="Calibri"/>
                <a:ea typeface="Times New Roman"/>
              </a:rPr>
              <a:t>at least one</a:t>
            </a:r>
            <a:r>
              <a:rPr b="0" lang="en-US" sz="2300" spc="-1" strike="noStrike">
                <a:solidFill>
                  <a:srgbClr val="000000"/>
                </a:solidFill>
                <a:latin typeface="Calibri"/>
                <a:ea typeface="Times New Roman"/>
              </a:rPr>
              <a:t> targeted area of concern in reading (you may choose up to 2 target areas of concern).</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   Identify one Intervention for each targeted area of concern in reading.</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d.  Develop a six week plan for implementation of the Interventions. </a:t>
            </a:r>
            <a:r>
              <a:rPr b="1" i="1" lang="en-US" sz="2300" spc="-1" strike="noStrike">
                <a:solidFill>
                  <a:srgbClr val="000000"/>
                </a:solidFill>
                <a:latin typeface="Calibri"/>
                <a:ea typeface="Times New Roman"/>
              </a:rPr>
              <a:t>Implementation should be begin no later than the week of Feb. 20</a:t>
            </a:r>
            <a:r>
              <a:rPr b="1" i="1" lang="en-US" sz="2300" spc="-1" strike="noStrike" baseline="30000">
                <a:solidFill>
                  <a:srgbClr val="000000"/>
                </a:solidFill>
                <a:latin typeface="Calibri"/>
                <a:ea typeface="Times New Roman"/>
              </a:rPr>
              <a:t>th</a:t>
            </a:r>
            <a:r>
              <a:rPr b="1" i="1" lang="en-US" sz="2300" spc="-1" strike="noStrike">
                <a:solidFill>
                  <a:srgbClr val="000000"/>
                </a:solidFill>
                <a:latin typeface="Calibri"/>
                <a:ea typeface="Times New Roman"/>
              </a:rPr>
              <a:t> in order to meet the deadline for completed work.</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Complete the Six Week Reading Intervention Plan for Tier 2 Instruction Sheet.</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e. Identify the assessment tool for Progress Monitoring.  </a:t>
            </a:r>
            <a:endParaRPr b="0" lang="en-US" sz="23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767">
                                            <p:txEl>
                                              <p:pRg st="0" end="0"/>
                                            </p:txEl>
                                          </p:spTgt>
                                        </p:tgtEl>
                                        <p:attrNameLst>
                                          <p:attrName>style.visibility</p:attrName>
                                        </p:attrNameLst>
                                      </p:cBhvr>
                                      <p:to>
                                        <p:strVal val="visible"/>
                                      </p:to>
                                    </p:set>
                                    <p:anim calcmode="lin" valueType="num">
                                      <p:cBhvr additive="base">
                                        <p:cTn id="205" dur="500" fill="hold"/>
                                        <p:tgtEl>
                                          <p:spTgt spid="376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7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767">
                                            <p:txEl>
                                              <p:pRg st="2" end="2"/>
                                            </p:txEl>
                                          </p:spTgt>
                                        </p:tgtEl>
                                        <p:attrNameLst>
                                          <p:attrName>style.visibility</p:attrName>
                                        </p:attrNameLst>
                                      </p:cBhvr>
                                      <p:to>
                                        <p:strVal val="visible"/>
                                      </p:to>
                                    </p:set>
                                    <p:anim calcmode="lin" valueType="num">
                                      <p:cBhvr additive="base">
                                        <p:cTn id="211" dur="500" fill="hold"/>
                                        <p:tgtEl>
                                          <p:spTgt spid="3767">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37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767">
                                            <p:txEl>
                                              <p:pRg st="3" end="3"/>
                                            </p:txEl>
                                          </p:spTgt>
                                        </p:tgtEl>
                                        <p:attrNameLst>
                                          <p:attrName>style.visibility</p:attrName>
                                        </p:attrNameLst>
                                      </p:cBhvr>
                                      <p:to>
                                        <p:strVal val="visible"/>
                                      </p:to>
                                    </p:set>
                                    <p:anim calcmode="lin" valueType="num">
                                      <p:cBhvr additive="base">
                                        <p:cTn id="217" dur="500" fill="hold"/>
                                        <p:tgtEl>
                                          <p:spTgt spid="376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7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767">
                                            <p:txEl>
                                              <p:pRg st="4" end="4"/>
                                            </p:txEl>
                                          </p:spTgt>
                                        </p:tgtEl>
                                        <p:attrNameLst>
                                          <p:attrName>style.visibility</p:attrName>
                                        </p:attrNameLst>
                                      </p:cBhvr>
                                      <p:to>
                                        <p:strVal val="visible"/>
                                      </p:to>
                                    </p:set>
                                    <p:anim calcmode="lin" valueType="num">
                                      <p:cBhvr additive="base">
                                        <p:cTn id="223" dur="500" fill="hold"/>
                                        <p:tgtEl>
                                          <p:spTgt spid="376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7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767">
                                            <p:txEl>
                                              <p:pRg st="5" end="5"/>
                                            </p:txEl>
                                          </p:spTgt>
                                        </p:tgtEl>
                                        <p:attrNameLst>
                                          <p:attrName>style.visibility</p:attrName>
                                        </p:attrNameLst>
                                      </p:cBhvr>
                                      <p:to>
                                        <p:strVal val="visible"/>
                                      </p:to>
                                    </p:set>
                                    <p:anim calcmode="lin" valueType="num">
                                      <p:cBhvr additive="base">
                                        <p:cTn id="229" dur="500" fill="hold"/>
                                        <p:tgtEl>
                                          <p:spTgt spid="376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7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767">
                                            <p:txEl>
                                              <p:pRg st="6" end="6"/>
                                            </p:txEl>
                                          </p:spTgt>
                                        </p:tgtEl>
                                        <p:attrNameLst>
                                          <p:attrName>style.visibility</p:attrName>
                                        </p:attrNameLst>
                                      </p:cBhvr>
                                      <p:to>
                                        <p:strVal val="visible"/>
                                      </p:to>
                                    </p:set>
                                    <p:anim calcmode="lin" valueType="num">
                                      <p:cBhvr additive="base">
                                        <p:cTn id="235" dur="500" fill="hold"/>
                                        <p:tgtEl>
                                          <p:spTgt spid="376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7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767">
                                            <p:txEl>
                                              <p:pRg st="9" end="9"/>
                                            </p:txEl>
                                          </p:spTgt>
                                        </p:tgtEl>
                                        <p:attrNameLst>
                                          <p:attrName>style.visibility</p:attrName>
                                        </p:attrNameLst>
                                      </p:cBhvr>
                                      <p:to>
                                        <p:strVal val="visible"/>
                                      </p:to>
                                    </p:set>
                                    <p:anim calcmode="lin" valueType="num">
                                      <p:cBhvr additive="base">
                                        <p:cTn id="241" dur="500" fill="hold"/>
                                        <p:tgtEl>
                                          <p:spTgt spid="3767">
                                            <p:txEl>
                                              <p:pRg st="9" end="9"/>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76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9" name=""/>
          <p:cNvSpPr txBox="1"/>
          <p:nvPr/>
        </p:nvSpPr>
        <p:spPr>
          <a:xfrm>
            <a:off x="304560" y="1294920"/>
            <a:ext cx="8458200" cy="5334120"/>
          </a:xfrm>
          <a:prstGeom prst="rect">
            <a:avLst/>
          </a:prstGeom>
          <a:noFill/>
          <a:ln w="0">
            <a:noFill/>
          </a:ln>
        </p:spPr>
        <p:txBody>
          <a:bodyPr anchor="t">
            <a:normAutofit fontScale="94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ep 4: Progress Monitoring and Data Analysis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t>
            </a:r>
            <a:r>
              <a:rPr b="1" i="1" lang="en-US" sz="2800" spc="-1" strike="noStrike">
                <a:solidFill>
                  <a:srgbClr val="000000"/>
                </a:solidFill>
                <a:latin typeface="Calibri"/>
              </a:rPr>
              <a:t>Reading Intervention Tracking Sheets</a:t>
            </a:r>
            <a:r>
              <a:rPr b="0" lang="en-US" sz="2800" spc="-1" strike="noStrike">
                <a:solidFill>
                  <a:srgbClr val="000000"/>
                </a:solidFill>
                <a:latin typeface="Calibri"/>
              </a:rPr>
              <a:t> for Weeks 1 and 2; Weeks 3 and 4; and Weeks 5 and 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the Progressing Monitoring Tool </a:t>
            </a:r>
            <a:r>
              <a:rPr b="1" i="1" lang="en-US" sz="2800" spc="-1" strike="noStrike">
                <a:solidFill>
                  <a:srgbClr val="000000"/>
                </a:solidFill>
                <a:latin typeface="Calibri"/>
              </a:rPr>
              <a:t>every 2 weeks</a:t>
            </a:r>
            <a:r>
              <a:rPr b="0" lang="en-US" sz="2800" spc="-1" strike="noStrike">
                <a:solidFill>
                  <a:srgbClr val="000000"/>
                </a:solidFill>
                <a:latin typeface="Calibri"/>
              </a:rPr>
              <a:t> to determine student progress and if any adjustments need to be made to the Intervention Plan.</a:t>
            </a:r>
            <a:endParaRPr b="0" lang="en-US" sz="2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769">
                                            <p:txEl>
                                              <p:pRg st="0" end="0"/>
                                            </p:txEl>
                                          </p:spTgt>
                                        </p:tgtEl>
                                        <p:attrNameLst>
                                          <p:attrName>style.visibility</p:attrName>
                                        </p:attrNameLst>
                                      </p:cBhvr>
                                      <p:to>
                                        <p:strVal val="visible"/>
                                      </p:to>
                                    </p:set>
                                    <p:anim calcmode="lin" valueType="num">
                                      <p:cBhvr additive="base">
                                        <p:cTn id="249" dur="500" fill="hold"/>
                                        <p:tgtEl>
                                          <p:spTgt spid="3769">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7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769">
                                            <p:txEl>
                                              <p:pRg st="2" end="2"/>
                                            </p:txEl>
                                          </p:spTgt>
                                        </p:tgtEl>
                                        <p:attrNameLst>
                                          <p:attrName>style.visibility</p:attrName>
                                        </p:attrNameLst>
                                      </p:cBhvr>
                                      <p:to>
                                        <p:strVal val="visible"/>
                                      </p:to>
                                    </p:set>
                                    <p:anim calcmode="lin" valueType="num">
                                      <p:cBhvr additive="base">
                                        <p:cTn id="255" dur="500" fill="hold"/>
                                        <p:tgtEl>
                                          <p:spTgt spid="3769">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37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769">
                                            <p:txEl>
                                              <p:pRg st="3" end="3"/>
                                            </p:txEl>
                                          </p:spTgt>
                                        </p:tgtEl>
                                        <p:attrNameLst>
                                          <p:attrName>style.visibility</p:attrName>
                                        </p:attrNameLst>
                                      </p:cBhvr>
                                      <p:to>
                                        <p:strVal val="visible"/>
                                      </p:to>
                                    </p:set>
                                    <p:anim calcmode="lin" valueType="num">
                                      <p:cBhvr additive="base">
                                        <p:cTn id="261" dur="500" fill="hold"/>
                                        <p:tgtEl>
                                          <p:spTgt spid="3769">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37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769">
                                            <p:txEl>
                                              <p:pRg st="6" end="6"/>
                                            </p:txEl>
                                          </p:spTgt>
                                        </p:tgtEl>
                                        <p:attrNameLst>
                                          <p:attrName>style.visibility</p:attrName>
                                        </p:attrNameLst>
                                      </p:cBhvr>
                                      <p:to>
                                        <p:strVal val="visible"/>
                                      </p:to>
                                    </p:set>
                                    <p:anim calcmode="lin" valueType="num">
                                      <p:cBhvr additive="base">
                                        <p:cTn id="267" dur="500" fill="hold"/>
                                        <p:tgtEl>
                                          <p:spTgt spid="3769">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37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0" name="Picture 5" descr=""/>
          <p:cNvPicPr/>
          <p:nvPr/>
        </p:nvPicPr>
        <p:blipFill>
          <a:blip r:embed="rId1"/>
          <a:stretch/>
        </p:blipFill>
        <p:spPr>
          <a:xfrm>
            <a:off x="7024680" y="685800"/>
            <a:ext cx="1844640" cy="1663560"/>
          </a:xfrm>
          <a:prstGeom prst="rect">
            <a:avLst/>
          </a:prstGeom>
          <a:ln w="0">
            <a:noFill/>
          </a:ln>
        </p:spPr>
      </p:pic>
      <p:sp>
        <p:nvSpPr>
          <p:cNvPr id="3771" name="Title 1"/>
          <p:cNvSpPr/>
          <p:nvPr/>
        </p:nvSpPr>
        <p:spPr>
          <a:xfrm>
            <a:off x="-533520" y="123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SSIGNMENT</a:t>
            </a:r>
            <a:endParaRPr b="0" lang="en-US" sz="4000" spc="-1" strike="noStrike">
              <a:solidFill>
                <a:srgbClr val="000000"/>
              </a:solidFill>
              <a:latin typeface="Arial"/>
            </a:endParaRPr>
          </a:p>
        </p:txBody>
      </p:sp>
      <p:sp>
        <p:nvSpPr>
          <p:cNvPr id="3772" name="Content Placeholder 2"/>
          <p:cNvSpPr/>
          <p:nvPr/>
        </p:nvSpPr>
        <p:spPr>
          <a:xfrm>
            <a:off x="304920" y="1460520"/>
            <a:ext cx="7391160" cy="48639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eaking out for Language: Why Language is Central to Reading Develop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 # due Session 6</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title"/>
          </p:nvPr>
        </p:nvSpPr>
        <p:spPr>
          <a:xfrm>
            <a:off x="533160" y="465120"/>
            <a:ext cx="5251320" cy="868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lass Norms</a:t>
            </a:r>
            <a:endParaRPr b="0" lang="en-US" sz="4000" spc="-1" strike="noStrike">
              <a:solidFill>
                <a:srgbClr val="000000"/>
              </a:solidFill>
              <a:latin typeface="Arial"/>
            </a:endParaRPr>
          </a:p>
        </p:txBody>
      </p:sp>
      <p:sp>
        <p:nvSpPr>
          <p:cNvPr id="3612" name=""/>
          <p:cNvSpPr txBox="1"/>
          <p:nvPr/>
        </p:nvSpPr>
        <p:spPr>
          <a:xfrm>
            <a:off x="333360" y="1599840"/>
            <a:ext cx="8229600" cy="4876920"/>
          </a:xfrm>
          <a:prstGeom prst="rect">
            <a:avLst/>
          </a:prstGeom>
          <a:noFill/>
          <a:ln w="0">
            <a:noFill/>
          </a:ln>
        </p:spPr>
        <p:txBody>
          <a:bodyPr lIns="50760" rIns="50760" tIns="50760" bIns="50760" anchor="t">
            <a:normAutofit fontScale="98000"/>
          </a:bodyPr>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seek equity of voice</a:t>
            </a:r>
            <a:r>
              <a:rPr b="0" lang="en-US" sz="2700" spc="-1" strike="noStrike" u="sng">
                <a:solidFill>
                  <a:srgbClr val="3e3d2d"/>
                </a:solidFill>
                <a:uFillTx/>
                <a:latin typeface="Arial"/>
              </a:rPr>
              <a:t>.</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willing to talk about sensitive issue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listen for understanding.</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ppreciate the strengths and contributions of other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e3d2d"/>
                </a:solidFill>
                <a:latin typeface="Arial"/>
              </a:rPr>
              <a:t>I bring positive energy and encouragement to the team.</a:t>
            </a:r>
            <a:endParaRPr b="0" lang="en-US" sz="25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100% responsibility.</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my issues to the sourc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a professional and my actions reflect that rol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come prepared to each class and participate as a learner.</a:t>
            </a:r>
            <a:endParaRPr b="0" lang="en-US" sz="2700" spc="-1" strike="noStrike">
              <a:solidFill>
                <a:srgbClr val="ffffff"/>
              </a:solidFill>
              <a:latin typeface="Arial"/>
            </a:endParaRPr>
          </a:p>
        </p:txBody>
      </p:sp>
      <p:pic>
        <p:nvPicPr>
          <p:cNvPr id="3613" name="Picture 4" descr="image4.pdf"/>
          <p:cNvPicPr/>
          <p:nvPr/>
        </p:nvPicPr>
        <p:blipFill>
          <a:blip r:embed="rId1"/>
          <a:stretch/>
        </p:blipFill>
        <p:spPr>
          <a:xfrm>
            <a:off x="7467480" y="380880"/>
            <a:ext cx="1095480" cy="103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4" name="PlaceHolder 1"/>
          <p:cNvSpPr>
            <a:spLocks noGrp="1"/>
          </p:cNvSpPr>
          <p:nvPr>
            <p:ph type="title"/>
          </p:nvPr>
        </p:nvSpPr>
        <p:spPr>
          <a:xfrm>
            <a:off x="228600" y="61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Britannic Bold"/>
              </a:rPr>
              <a:t>JCPS-Bellarmine Literacy Project</a:t>
            </a:r>
            <a:endParaRPr b="0" lang="en-US" sz="4400" spc="-1" strike="noStrike">
              <a:solidFill>
                <a:srgbClr val="000000"/>
              </a:solidFill>
              <a:latin typeface="Calibri"/>
            </a:endParaRPr>
          </a:p>
        </p:txBody>
      </p:sp>
      <p:sp>
        <p:nvSpPr>
          <p:cNvPr id="3615" name=""/>
          <p:cNvSpPr txBox="1"/>
          <p:nvPr/>
        </p:nvSpPr>
        <p:spPr>
          <a:xfrm>
            <a:off x="304920" y="1523520"/>
            <a:ext cx="853416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quity in Educ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in this country—regardless of wealth, home language, zip code, gender, sexual orientation, race or disability—must have the chance to learn and achieve. Education must provide a path to a thriving middle class for all who are willing to work hard. Our national identity and our economic strength depend o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6" name="PlaceHolder 1"/>
          <p:cNvSpPr>
            <a:spLocks noGrp="1"/>
          </p:cNvSpPr>
          <p:nvPr>
            <p:ph type="title"/>
          </p:nvPr>
        </p:nvSpPr>
        <p:spPr>
          <a:xfrm>
            <a:off x="1112760" y="233280"/>
            <a:ext cx="6934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Britannic Bold"/>
              </a:rPr>
              <a:t>JCPS-Bellarmine Literacy Project</a:t>
            </a:r>
            <a:endParaRPr b="0" lang="en-US" sz="3600" spc="-1" strike="noStrike">
              <a:solidFill>
                <a:srgbClr val="000000"/>
              </a:solidFill>
              <a:latin typeface="Calibri"/>
            </a:endParaRPr>
          </a:p>
        </p:txBody>
      </p:sp>
      <p:sp>
        <p:nvSpPr>
          <p:cNvPr id="3617" name="PlaceHolder 2"/>
          <p:cNvSpPr>
            <a:spLocks noGrp="1"/>
          </p:cNvSpPr>
          <p:nvPr>
            <p:ph/>
          </p:nvPr>
        </p:nvSpPr>
        <p:spPr>
          <a:xfrm>
            <a:off x="174600" y="2577600"/>
            <a:ext cx="6019920" cy="2573640"/>
          </a:xfrm>
          <a:prstGeom prst="rect">
            <a:avLst/>
          </a:prstGeom>
          <a:noFill/>
          <a:ln w="0">
            <a:noFill/>
          </a:ln>
        </p:spPr>
        <p:txBody>
          <a:bodyPr lIns="50760" rIns="50760" tIns="50760" bIns="50760" anchor="t">
            <a:normAutofit fontScale="97000"/>
          </a:bodyPr>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ep content knowledge of the reading process  and reading instruction (</a:t>
            </a:r>
            <a:r>
              <a:rPr b="1" i="1" lang="en-US" sz="2500" spc="-1" strike="noStrike">
                <a:solidFill>
                  <a:srgbClr val="000000"/>
                </a:solidFill>
                <a:latin typeface="Calibri"/>
              </a:rPr>
              <a:t>Knowledg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Based, Culturally Relevant  Reading Instruction (</a:t>
            </a:r>
            <a:r>
              <a:rPr b="1" i="1" lang="en-US" sz="2500" spc="-1" strike="noStrike">
                <a:solidFill>
                  <a:srgbClr val="000000"/>
                </a:solidFill>
                <a:latin typeface="Calibri"/>
              </a:rPr>
              <a:t>Skill</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wth vs. fixed mindset (</a:t>
            </a:r>
            <a:r>
              <a:rPr b="1" i="1" lang="en-US" sz="2500" spc="-1" strike="noStrike">
                <a:solidFill>
                  <a:srgbClr val="000000"/>
                </a:solidFill>
                <a:latin typeface="Calibri"/>
              </a:rPr>
              <a:t>Disposition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3618" name="Picture 2" descr="jcps logo"/>
          <p:cNvPicPr/>
          <p:nvPr/>
        </p:nvPicPr>
        <p:blipFill>
          <a:blip r:embed="rId1"/>
          <a:stretch/>
        </p:blipFill>
        <p:spPr>
          <a:xfrm>
            <a:off x="493560" y="5905440"/>
            <a:ext cx="2514600" cy="738360"/>
          </a:xfrm>
          <a:prstGeom prst="rect">
            <a:avLst/>
          </a:prstGeom>
          <a:ln w="0">
            <a:noFill/>
          </a:ln>
        </p:spPr>
      </p:pic>
      <p:pic>
        <p:nvPicPr>
          <p:cNvPr id="3619" name="Picture 4" descr="Bellarmine University Shield"/>
          <p:cNvPicPr/>
          <p:nvPr/>
        </p:nvPicPr>
        <p:blipFill>
          <a:blip r:embed="rId2"/>
          <a:stretch/>
        </p:blipFill>
        <p:spPr>
          <a:xfrm>
            <a:off x="5770440" y="5742000"/>
            <a:ext cx="2989440" cy="1066680"/>
          </a:xfrm>
          <a:prstGeom prst="rect">
            <a:avLst/>
          </a:prstGeom>
          <a:ln w="0">
            <a:noFill/>
          </a:ln>
        </p:spPr>
      </p:pic>
      <p:sp>
        <p:nvSpPr>
          <p:cNvPr id="3620" name="Rectangle 20"/>
          <p:cNvSpPr/>
          <p:nvPr/>
        </p:nvSpPr>
        <p:spPr>
          <a:xfrm>
            <a:off x="520560" y="1167120"/>
            <a:ext cx="8170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f81bd"/>
                </a:solidFill>
                <a:latin typeface="Arial"/>
                <a:ea typeface="ヒラギノ角ゴ Pro W3"/>
              </a:rPr>
              <a:t>A Capacity-Building Model for Teacher Development (Cooter &amp; Cooter, 2003) in Research Based, Culturally Relevant Reading Instruction</a:t>
            </a:r>
            <a:endParaRPr b="0" lang="en-US" sz="2000" spc="-1" strike="noStrike">
              <a:solidFill>
                <a:srgbClr val="000000"/>
              </a:solidFill>
              <a:latin typeface="Arial"/>
            </a:endParaRPr>
          </a:p>
        </p:txBody>
      </p:sp>
      <p:sp>
        <p:nvSpPr>
          <p:cNvPr id="3621" name="TextBox 1"/>
          <p:cNvSpPr/>
          <p:nvPr/>
        </p:nvSpPr>
        <p:spPr>
          <a:xfrm>
            <a:off x="6362640" y="2598840"/>
            <a:ext cx="25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Teacher Agency</a:t>
            </a:r>
            <a:endParaRPr b="0" lang="en-US" sz="2000" spc="-1" strike="noStrike">
              <a:solidFill>
                <a:srgbClr val="000000"/>
              </a:solidFill>
              <a:latin typeface="Arial"/>
            </a:endParaRPr>
          </a:p>
        </p:txBody>
      </p:sp>
      <p:sp>
        <p:nvSpPr>
          <p:cNvPr id="3622" name="TextBox 8"/>
          <p:cNvSpPr/>
          <p:nvPr/>
        </p:nvSpPr>
        <p:spPr>
          <a:xfrm>
            <a:off x="6248520" y="3863880"/>
            <a:ext cx="27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Global Thinkers</a:t>
            </a:r>
            <a:endParaRPr b="0" lang="en-US" sz="2000" spc="-1" strike="noStrike">
              <a:solidFill>
                <a:srgbClr val="000000"/>
              </a:solidFill>
              <a:latin typeface="Arial"/>
            </a:endParaRPr>
          </a:p>
        </p:txBody>
      </p:sp>
      <p:cxnSp>
        <p:nvCxnSpPr>
          <p:cNvPr id="3623" name="Straight Arrow Connector 4"/>
          <p:cNvCxnSpPr/>
          <p:nvPr/>
        </p:nvCxnSpPr>
        <p:spPr>
          <a:xfrm flipV="1">
            <a:off x="5332320" y="4063680"/>
            <a:ext cx="876960" cy="202320"/>
          </a:xfrm>
          <a:prstGeom prst="straightConnector1">
            <a:avLst/>
          </a:prstGeom>
          <a:ln w="9360">
            <a:solidFill>
              <a:srgbClr val="4a7ebb"/>
            </a:solidFill>
            <a:miter/>
            <a:tailEnd len="med" type="arrow" w="med"/>
          </a:ln>
        </p:spPr>
      </p:cxnSp>
      <p:cxnSp>
        <p:nvCxnSpPr>
          <p:cNvPr id="3624" name="Straight Arrow Connector 11"/>
          <p:cNvCxnSpPr/>
          <p:nvPr/>
        </p:nvCxnSpPr>
        <p:spPr>
          <a:xfrm flipV="1">
            <a:off x="5351400" y="2988720"/>
            <a:ext cx="876960" cy="200520"/>
          </a:xfrm>
          <a:prstGeom prst="straightConnector1">
            <a:avLst/>
          </a:prstGeom>
          <a:ln w="9360">
            <a:solidFill>
              <a:srgbClr val="4a7ebb"/>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1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1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617">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6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
          <p:cNvSpPr txBox="1"/>
          <p:nvPr/>
        </p:nvSpPr>
        <p:spPr>
          <a:xfrm>
            <a:off x="533520" y="1905120"/>
            <a:ext cx="8153280" cy="44956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Question: What is the primary ingredient in the recipe for every child’s reading success? </a:t>
            </a:r>
            <a:endParaRPr b="0" lang="en-US" sz="3200" spc="-1" strike="noStrike">
              <a:solidFill>
                <a:srgbClr val="000000"/>
              </a:solidFill>
              <a:latin typeface="Calibri"/>
            </a:endParaRPr>
          </a:p>
          <a:p>
            <a:pPr>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Answer: An effective classroom teacher who has the ability to teach reading to a group of children that have a variety of abilities and needs (e.g., Snow, Griffin, &amp; Burns, 2005; Strickland, Snow, Griffin, Burns, &amp; McNamara, 2002).</a:t>
            </a:r>
            <a:endParaRPr b="0" lang="en-US" sz="3200" spc="-1" strike="noStrike">
              <a:solidFill>
                <a:srgbClr val="000000"/>
              </a:solidFill>
              <a:latin typeface="Calibri"/>
            </a:endParaRPr>
          </a:p>
        </p:txBody>
      </p:sp>
      <p:pic>
        <p:nvPicPr>
          <p:cNvPr id="3626" name="Picture 2" descr=""/>
          <p:cNvPicPr/>
          <p:nvPr/>
        </p:nvPicPr>
        <p:blipFill>
          <a:blip r:embed="rId1"/>
          <a:stretch/>
        </p:blipFill>
        <p:spPr>
          <a:xfrm>
            <a:off x="762120" y="304920"/>
            <a:ext cx="7772400" cy="1143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62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6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3628" name=""/>
          <p:cNvSpPr txBox="1"/>
          <p:nvPr/>
        </p:nvSpPr>
        <p:spPr>
          <a:xfrm>
            <a:off x="457200" y="1600200"/>
            <a:ext cx="8229600" cy="4525920"/>
          </a:xfrm>
          <a:prstGeom prst="rect">
            <a:avLst/>
          </a:prstGeom>
          <a:noFill/>
          <a:ln w="0">
            <a:noFill/>
          </a:ln>
        </p:spPr>
        <p:txBody>
          <a:bodyPr lIns="50760" rIns="50760" tIns="50760" bIns="50760" anchor="t">
            <a:normAutofit/>
          </a:bodyPr>
          <a:p>
            <a:pPr marL="66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Must understand literacy well enough to:</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Understand the literacy strengths and needs of individual learner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Adapt instruction to meet individual need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Be culturally responsive in their reading instruction</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1714680" indent="-274680">
              <a:lnSpc>
                <a:spcPct val="9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Briggs, Perkins, &amp; Walker-Dalhouse, 2010)</a:t>
            </a:r>
            <a:endParaRPr b="0" lang="en-US" sz="2400" spc="-1" strike="noStrike">
              <a:solidFill>
                <a:srgbClr val="000000"/>
              </a:solidFill>
              <a:latin typeface="Calibri"/>
            </a:endParaRPr>
          </a:p>
        </p:txBody>
      </p:sp>
      <p:pic>
        <p:nvPicPr>
          <p:cNvPr id="3629" name="Picture 3" descr="asset.jpg"/>
          <p:cNvPicPr/>
          <p:nvPr/>
        </p:nvPicPr>
        <p:blipFill>
          <a:blip r:embed="rId1"/>
          <a:stretch/>
        </p:blipFill>
        <p:spPr>
          <a:xfrm>
            <a:off x="7556400" y="0"/>
            <a:ext cx="1359000" cy="175248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362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628">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3628">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28">
                                            <p:txEl>
                                              <p:pRg st="6" end="6"/>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0" name="PlaceHolder 1"/>
          <p:cNvSpPr>
            <a:spLocks noGrp="1"/>
          </p:cNvSpPr>
          <p:nvPr>
            <p:ph type="title"/>
          </p:nvPr>
        </p:nvSpPr>
        <p:spPr>
          <a:xfrm>
            <a:off x="68544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3631" name=""/>
          <p:cNvSpPr txBox="1"/>
          <p:nvPr/>
        </p:nvSpPr>
        <p:spPr>
          <a:xfrm>
            <a:off x="380880" y="1752120"/>
            <a:ext cx="8229600" cy="4419720"/>
          </a:xfrm>
          <a:prstGeom prst="rect">
            <a:avLst/>
          </a:prstGeom>
          <a:noFill/>
          <a:ln w="0">
            <a:noFill/>
          </a:ln>
        </p:spPr>
        <p:txBody>
          <a:bodyPr lIns="50760" rIns="50760" tIns="50760" bIns="50760" anchor="t">
            <a:normAutofit/>
          </a:bodyPr>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32" name="Picture 3" descr="asset.jpg"/>
          <p:cNvPicPr/>
          <p:nvPr/>
        </p:nvPicPr>
        <p:blipFill>
          <a:blip r:embed="rId1"/>
          <a:stretch/>
        </p:blipFill>
        <p:spPr>
          <a:xfrm>
            <a:off x="7556400" y="0"/>
            <a:ext cx="1359000" cy="1752480"/>
          </a:xfrm>
          <a:prstGeom prst="rect">
            <a:avLst/>
          </a:prstGeom>
          <a:ln w="0">
            <a:noFill/>
          </a:ln>
        </p:spPr>
      </p:pic>
      <p:pic>
        <p:nvPicPr>
          <p:cNvPr id="3633" name="Diagram 1" descr=""/>
          <p:cNvPicPr/>
          <p:nvPr/>
        </p:nvPicPr>
        <p:blipFill>
          <a:blip r:embed="rId2"/>
          <a:stretch/>
        </p:blipFill>
        <p:spPr>
          <a:xfrm>
            <a:off x="609480" y="1968480"/>
            <a:ext cx="7851960" cy="408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PlaceHolder 1"/>
          <p:cNvSpPr>
            <a:spLocks noGrp="1"/>
          </p:cNvSpPr>
          <p:nvPr>
            <p:ph type="title"/>
          </p:nvPr>
        </p:nvSpPr>
        <p:spPr>
          <a:xfrm>
            <a:off x="1404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search-Based Reading Instruction</a:t>
            </a:r>
            <a:endParaRPr b="0" lang="en-US" sz="4000" spc="-1" strike="noStrike">
              <a:solidFill>
                <a:srgbClr val="000000"/>
              </a:solidFill>
              <a:latin typeface="Calibri"/>
            </a:endParaRPr>
          </a:p>
        </p:txBody>
      </p:sp>
      <p:sp>
        <p:nvSpPr>
          <p:cNvPr id="3635" name=""/>
          <p:cNvSpPr txBox="1"/>
          <p:nvPr/>
        </p:nvSpPr>
        <p:spPr>
          <a:xfrm>
            <a:off x="365040" y="990720"/>
            <a:ext cx="8229600" cy="384336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tional Reading Panel (2000) Report and the “Big Five” (</a:t>
            </a:r>
            <a:r>
              <a:rPr b="1" lang="en-US" sz="3000" spc="-1" strike="noStrike">
                <a:solidFill>
                  <a:srgbClr val="000000"/>
                </a:solidFill>
                <a:latin typeface="Calibri"/>
              </a:rPr>
              <a:t>what to teach, content</a:t>
            </a: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based reading instructional strategies (</a:t>
            </a:r>
            <a:r>
              <a:rPr b="1" lang="en-US" sz="3000" spc="-1" strike="noStrike">
                <a:solidFill>
                  <a:srgbClr val="000000"/>
                </a:solidFill>
                <a:latin typeface="Calibri"/>
              </a:rPr>
              <a:t>how to teach, pedagogy</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imental studies  used to develop a strong research base</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ven to raise student achievement</a:t>
            </a: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Works Clearinghous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u="sng">
                <a:solidFill>
                  <a:srgbClr val="0000ff"/>
                </a:solidFill>
                <a:uFillTx/>
                <a:latin typeface="Calibri"/>
                <a:hlinkClick r:id="rId1"/>
              </a:rPr>
              <a:t>http://ies.ed.gov/ncee/wwc/</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6" name="Rectangle 4"/>
          <p:cNvSpPr/>
          <p:nvPr/>
        </p:nvSpPr>
        <p:spPr>
          <a:xfrm>
            <a:off x="8622720" y="5928480"/>
            <a:ext cx="214920" cy="482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wrap="none" lIns="50760" rIns="50760" tIns="50760" bIns="507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pic>
        <p:nvPicPr>
          <p:cNvPr id="3637" name="Picture 5" descr="National Reading Panel logo"/>
          <p:cNvPicPr/>
          <p:nvPr/>
        </p:nvPicPr>
        <p:blipFill>
          <a:blip r:embed="rId2"/>
          <a:stretch/>
        </p:blipFill>
        <p:spPr>
          <a:xfrm>
            <a:off x="6172200" y="4834080"/>
            <a:ext cx="2476440" cy="1666800"/>
          </a:xfrm>
          <a:prstGeom prst="rect">
            <a:avLst/>
          </a:prstGeom>
          <a:ln w="0">
            <a:noFill/>
          </a:ln>
        </p:spPr>
      </p:pic>
      <p:pic>
        <p:nvPicPr>
          <p:cNvPr id="3638" name="Picture 6" descr="National Reading Panel logo with A B C"/>
          <p:cNvPicPr/>
          <p:nvPr/>
        </p:nvPicPr>
        <p:blipFill>
          <a:blip r:embed="rId3"/>
          <a:stretch/>
        </p:blipFill>
        <p:spPr>
          <a:xfrm>
            <a:off x="414360" y="5118120"/>
            <a:ext cx="1305000" cy="1295280"/>
          </a:xfrm>
          <a:prstGeom prst="rect">
            <a:avLst/>
          </a:prstGeom>
          <a:ln w="0">
            <a:noFill/>
          </a:ln>
        </p:spPr>
      </p:pic>
      <p:sp>
        <p:nvSpPr>
          <p:cNvPr id="3639" name="Rectangle 4"/>
          <p:cNvSpPr/>
          <p:nvPr/>
        </p:nvSpPr>
        <p:spPr>
          <a:xfrm>
            <a:off x="2362320" y="4697280"/>
            <a:ext cx="3429000" cy="219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T</a:t>
            </a:r>
            <a:r>
              <a:rPr b="1" lang="en-US" sz="1800" spc="-1" strike="noStrike">
                <a:solidFill>
                  <a:srgbClr val="000000"/>
                </a:solidFill>
                <a:latin typeface="Arial"/>
                <a:ea typeface="Arial"/>
              </a:rPr>
              <a:t>EACHING CHILDREN TO READ:</a:t>
            </a:r>
            <a:r>
              <a:rPr b="0" lang="en-US" sz="1800" spc="-1" strike="noStrike">
                <a:solidFill>
                  <a:srgbClr val="000000"/>
                </a:solidFill>
                <a:latin typeface="Calibri"/>
                <a:ea typeface="Arial"/>
              </a:rPr>
              <a:t> </a:t>
            </a:r>
            <a:br>
              <a:rPr sz="1800"/>
            </a:br>
            <a:r>
              <a:rPr b="0" lang="en-US" sz="1200" spc="-1" strike="noStrike">
                <a:solidFill>
                  <a:srgbClr val="000000"/>
                </a:solidFill>
                <a:latin typeface="Arial"/>
                <a:ea typeface="Arial"/>
              </a:rPr>
              <a:t>An Evidence-Based Assessment</a:t>
            </a:r>
            <a:br>
              <a:rPr sz="1200"/>
            </a:br>
            <a:r>
              <a:rPr b="0" lang="en-US" sz="1200" spc="-1" strike="noStrike">
                <a:solidFill>
                  <a:srgbClr val="000000"/>
                </a:solidFill>
                <a:latin typeface="Arial"/>
                <a:ea typeface="Arial"/>
              </a:rPr>
              <a:t>of the Scientific Research Literature</a:t>
            </a:r>
            <a:br>
              <a:rPr sz="1200"/>
            </a:br>
            <a:r>
              <a:rPr b="0" lang="en-US" sz="1200" spc="-1" strike="noStrike">
                <a:solidFill>
                  <a:srgbClr val="000000"/>
                </a:solidFill>
                <a:latin typeface="Arial"/>
                <a:ea typeface="Arial"/>
              </a:rPr>
              <a:t>on Reading and Its Implications</a:t>
            </a:r>
            <a:br>
              <a:rPr sz="1200"/>
            </a:br>
            <a:r>
              <a:rPr b="0" lang="en-US" sz="1200" spc="-1" strike="noStrike">
                <a:solidFill>
                  <a:srgbClr val="000000"/>
                </a:solidFill>
                <a:latin typeface="Arial"/>
                <a:ea typeface="Arial"/>
              </a:rPr>
              <a:t>for Reading Instru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dc:creator>
  <dc:description/>
  <dc:language>en-US</dc:language>
  <cp:lastModifiedBy>Magpuri-Lavell, Theresa</cp:lastModifiedBy>
  <cp:lastPrinted>2014-07-27T15:45:54Z</cp:lastPrinted>
  <dcterms:modified xsi:type="dcterms:W3CDTF">2017-02-03T13:56:11Z</dcterms:modified>
  <cp:revision>193</cp:revision>
  <dc:subject/>
  <dc:title>Oldham County Schools Reading Academy Session 2</dc:title>
</cp:coreProperties>
</file>